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7426325" cy="13190538"/>
  <p:notesSz cx="3143250" cy="48704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3142800" cy="48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780920" y="-36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56960" y="365040"/>
            <a:ext cx="1028520" cy="182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462564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780920" y="462564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5FC2C-0060-4E03-A20B-3E37ED02C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1781280" y="4626000"/>
            <a:ext cx="1361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7A4E6-804C-4BF9-9F0F-3E70A59D475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057320" y="365040"/>
            <a:ext cx="1028520" cy="182736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8A1B-6524-4D4C-8B65-D0DE96234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9360" y="531720"/>
            <a:ext cx="6688440" cy="219888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9360" y="3079800"/>
            <a:ext cx="6688440" cy="415080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8680" bIns="586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9360" y="7625160"/>
            <a:ext cx="6688440" cy="415080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8680" bIns="586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3422-F162-4D5C-9470-E129A4CA9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9360" y="531720"/>
            <a:ext cx="6688440" cy="219888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9360" y="3079800"/>
            <a:ext cx="3263760" cy="415080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8680" bIns="586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796560" y="3079800"/>
            <a:ext cx="3263760" cy="415080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8680" bIns="586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69360" y="7625160"/>
            <a:ext cx="3263760" cy="415080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8680" bIns="586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796560" y="7625160"/>
            <a:ext cx="3263760" cy="415080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8680" bIns="586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8829-2573-4EDA-A3A6-091E4377C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9360" y="531720"/>
            <a:ext cx="6688440" cy="219888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69360" y="3079800"/>
            <a:ext cx="2153520" cy="415080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8680" bIns="586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30880" y="3079800"/>
            <a:ext cx="2153520" cy="415080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8680" bIns="586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92400" y="3079800"/>
            <a:ext cx="2153520" cy="415080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8680" bIns="586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9360" y="7625160"/>
            <a:ext cx="2153520" cy="415080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8680" bIns="586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30880" y="7625160"/>
            <a:ext cx="2153520" cy="415080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8680" bIns="586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92400" y="7625160"/>
            <a:ext cx="2153520" cy="415080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8680" bIns="586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5FCF-BD35-47BC-8D21-EECEEB82D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9360" y="531720"/>
            <a:ext cx="6688440" cy="219888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69360" y="3079800"/>
            <a:ext cx="6688440" cy="87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E8C2-1F21-4984-B54A-4AA70B416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9360" y="531720"/>
            <a:ext cx="6688440" cy="219888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69360" y="3079800"/>
            <a:ext cx="6688440" cy="870264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8680" bIns="586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5975-2CEA-4DC0-87BB-C4A97C726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9360" y="531720"/>
            <a:ext cx="6688440" cy="219888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9360" y="3079800"/>
            <a:ext cx="3263760" cy="870264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8680" bIns="586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796560" y="3079800"/>
            <a:ext cx="3263760" cy="870264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8680" bIns="586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CE25-4EE2-4AA5-9467-3CAC7BD8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9360" y="531720"/>
            <a:ext cx="6688440" cy="219888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E85D-A35E-46D3-8185-E44201837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9360" y="531720"/>
            <a:ext cx="6688440" cy="101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5614-C5CA-4B27-BF07-05F5E64BA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9360" y="531720"/>
            <a:ext cx="6688440" cy="219888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69360" y="3079800"/>
            <a:ext cx="3263760" cy="415080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8680" bIns="586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796560" y="3079800"/>
            <a:ext cx="3263760" cy="870264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8680" bIns="586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69360" y="7625160"/>
            <a:ext cx="3263760" cy="415080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8680" bIns="586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7996-609B-41D8-B854-CDE8A155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9360" y="531720"/>
            <a:ext cx="6688440" cy="219888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9360" y="3079800"/>
            <a:ext cx="3263760" cy="870264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8680" bIns="586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796560" y="3079800"/>
            <a:ext cx="3263760" cy="415080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8680" bIns="586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796560" y="7625160"/>
            <a:ext cx="3263760" cy="415080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8680" bIns="586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4B51-0415-43BD-B6A0-7FE2B3D7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9360" y="531720"/>
            <a:ext cx="6688440" cy="219888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9360" y="3079800"/>
            <a:ext cx="3263760" cy="415080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8680" bIns="586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796560" y="3079800"/>
            <a:ext cx="3263760" cy="415080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8680" bIns="586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9360" y="7625160"/>
            <a:ext cx="6688440" cy="415080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8680" bIns="586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8D43-2D34-435A-A6C6-0345187D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9360" y="531720"/>
            <a:ext cx="6688440" cy="219888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9360" y="3079800"/>
            <a:ext cx="6688440" cy="870264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8680" bIns="58680" anchor="t">
            <a:normAutofit fontScale="94000"/>
          </a:bodyPr>
          <a:p>
            <a:pPr marL="414720" indent="-4147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901080" indent="-3441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380240" indent="-2761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1936800" indent="-27612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488680" indent="-27864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488680" indent="-27864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488680" indent="-27864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69360" y="12013920"/>
            <a:ext cx="1731960" cy="91116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8680" bIns="58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38000" y="12013920"/>
            <a:ext cx="2351160" cy="91116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8680" bIns="58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325840" y="12013920"/>
            <a:ext cx="1731960" cy="91116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8680" bIns="58680" anchor="t">
            <a:noAutofit/>
          </a:bodyPr>
          <a:lstStyle>
            <a:lvl1pPr indent="0" algn="r">
              <a:buNone/>
              <a:tabLst>
                <a:tab algn="l" pos="0"/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fld id="{C3E8931A-517E-45D4-B4E8-F50F7A96F543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グループ化 1"/>
          <p:cNvGrpSpPr/>
          <p:nvPr/>
        </p:nvGrpSpPr>
        <p:grpSpPr>
          <a:xfrm>
            <a:off x="7559640" y="426960"/>
            <a:ext cx="5432400" cy="5583240"/>
            <a:chOff x="7559640" y="426960"/>
            <a:chExt cx="5432400" cy="5583240"/>
          </a:xfrm>
        </p:grpSpPr>
        <p:sp>
          <p:nvSpPr>
            <p:cNvPr id="49" name="テキスト ボックス 2"/>
            <p:cNvSpPr/>
            <p:nvPr/>
          </p:nvSpPr>
          <p:spPr>
            <a:xfrm>
              <a:off x="7559640" y="426960"/>
              <a:ext cx="5432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3200" spc="-1" strike="noStrike">
                  <a:solidFill>
                    <a:srgbClr val="000000"/>
                  </a:solidFill>
                  <a:latin typeface="ＭＳ Ｐゴシック"/>
                </a:rPr>
                <a:t>スイング</a:t>
              </a:r>
              <a:r>
                <a:rPr b="1" lang="en-US" sz="3200" spc="-1" strike="noStrike">
                  <a:solidFill>
                    <a:srgbClr val="000000"/>
                  </a:solidFill>
                  <a:latin typeface="ＭＳ Ｐゴシック"/>
                </a:rPr>
                <a:t>POP-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テキスト ボックス 4"/>
            <p:cNvSpPr/>
            <p:nvPr/>
          </p:nvSpPr>
          <p:spPr>
            <a:xfrm>
              <a:off x="7895880" y="1356840"/>
              <a:ext cx="4759920" cy="198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ＭＳ Ｐゴシック"/>
                </a:rPr>
                <a:t>PowerPoint</a:t>
              </a:r>
              <a:r>
                <a:rPr b="0" lang="ja-JP" sz="2200" spc="-1" strike="noStrike">
                  <a:solidFill>
                    <a:srgbClr val="000000"/>
                  </a:solidFill>
                  <a:latin typeface="ＭＳ Ｐゴシック"/>
                </a:rPr>
                <a:t>のバージョンによっては数値に若干誤差が生じている場合がありますが、そのまま作成いただいて問題ございません。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テキスト ボックス 6"/>
            <p:cNvSpPr/>
            <p:nvPr/>
          </p:nvSpPr>
          <p:spPr>
            <a:xfrm>
              <a:off x="7894800" y="3105360"/>
              <a:ext cx="4762080" cy="29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200" spc="-1" strike="noStrike">
                  <a:solidFill>
                    <a:srgbClr val="ff0000"/>
                  </a:solidFill>
                  <a:latin typeface="ＭＳ Ｐゴシック"/>
                </a:rPr>
                <a:t>データ作成の注意事項</a:t>
              </a:r>
              <a:r>
                <a:rPr b="0" lang="ja-JP" sz="22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200" spc="-1" strike="noStrike">
                  <a:solidFill>
                    <a:srgbClr val="000000"/>
                  </a:solidFill>
                  <a:latin typeface="ＭＳ Ｐゴシック"/>
                </a:rPr>
                <a:t>仕上がりギリギリまで文字・写真・絵柄が入る場合は、用紙の白が出ないように若干拡大して印刷します。そのため切れては困る文字や絵柄は、仕上がりより</a:t>
              </a:r>
              <a:r>
                <a:rPr b="0" lang="en-US" sz="2200" spc="-1" strike="noStrike">
                  <a:solidFill>
                    <a:srgbClr val="000000"/>
                  </a:solidFill>
                  <a:latin typeface="ＭＳ Ｐゴシック"/>
                </a:rPr>
                <a:t>3mm</a:t>
              </a:r>
              <a:r>
                <a:rPr b="0" lang="ja-JP" sz="2200" spc="-1" strike="noStrike">
                  <a:solidFill>
                    <a:srgbClr val="000000"/>
                  </a:solidFill>
                  <a:latin typeface="ＭＳ Ｐゴシック"/>
                </a:rPr>
                <a:t>内側に配置してください。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Picture 9" descr="\\10.0.0.53\docs\HaNaMi\2015\販促応援REnovation\テンプレート修正\新テンプレート\スイングPOP\psd\SwingPOP_G.png"/>
          <p:cNvPicPr/>
          <p:nvPr/>
        </p:nvPicPr>
        <p:blipFill>
          <a:blip r:embed="rId1"/>
          <a:stretch/>
        </p:blipFill>
        <p:spPr>
          <a:xfrm>
            <a:off x="0" y="1440"/>
            <a:ext cx="7427880" cy="131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05:25:09Z</dcterms:created>
  <dc:creator>販促応援.com</dc:creator>
  <dc:description/>
  <dc:language>en-US</dc:language>
  <cp:lastModifiedBy>hanami</cp:lastModifiedBy>
  <dcterms:modified xsi:type="dcterms:W3CDTF">2015-10-14T08:32:31Z</dcterms:modified>
  <cp:revision>17</cp:revision>
  <dc:subject/>
  <dc:title>スライド 1</dc:title>
</cp:coreProperties>
</file>