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830638" cy="7250113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88640" y="365040"/>
            <a:ext cx="96516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6B85-B024-4EFF-9236-7082519C8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E7E8-D491-4E9D-BBE1-0224397CBB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089000" y="365040"/>
            <a:ext cx="96516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34F3-C085-48B9-A32A-1EF7316E9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40" y="291600"/>
            <a:ext cx="3449520" cy="12099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440" y="1692000"/>
            <a:ext cx="3449520" cy="228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440" y="4191840"/>
            <a:ext cx="3449520" cy="228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B043-460E-4806-AB8A-907A20F5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40" y="291600"/>
            <a:ext cx="3449520" cy="12099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40" y="1692000"/>
            <a:ext cx="1683360" cy="228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58400" y="1692000"/>
            <a:ext cx="1683360" cy="228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440" y="4191840"/>
            <a:ext cx="1683360" cy="228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958400" y="4191840"/>
            <a:ext cx="1683360" cy="228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A0F4-8F72-4F13-9763-4EF1AD4A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440" y="291600"/>
            <a:ext cx="3449520" cy="12099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440" y="1692000"/>
            <a:ext cx="1110600" cy="228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56840" y="1692000"/>
            <a:ext cx="1110600" cy="228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523600" y="1692000"/>
            <a:ext cx="1110600" cy="228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440" y="4191840"/>
            <a:ext cx="1110600" cy="228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356840" y="4191840"/>
            <a:ext cx="1110600" cy="228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523600" y="4191840"/>
            <a:ext cx="1110600" cy="228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0730-75E7-4680-A319-2CAF4C288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440" y="291600"/>
            <a:ext cx="3449520" cy="12099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440" y="1692000"/>
            <a:ext cx="3449520" cy="47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73E9-471D-400E-84EF-888393B6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40" y="291600"/>
            <a:ext cx="3449520" cy="12099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440" y="1692000"/>
            <a:ext cx="3449520" cy="4786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AC71-7FBD-4C4D-8E11-CB72E3A4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40" y="291600"/>
            <a:ext cx="3449520" cy="12099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440" y="1692000"/>
            <a:ext cx="1683360" cy="4786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958400" y="1692000"/>
            <a:ext cx="1683360" cy="4786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7150-E139-48FB-8FBB-E485B266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40" y="291600"/>
            <a:ext cx="3449520" cy="12099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43FE-AB38-4689-B1AF-8E0CAAD9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440" y="291600"/>
            <a:ext cx="3449520" cy="56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CAEF-B739-4DB5-823A-7408FE27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40" y="291600"/>
            <a:ext cx="3449520" cy="12099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440" y="1692000"/>
            <a:ext cx="1683360" cy="228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958400" y="1692000"/>
            <a:ext cx="1683360" cy="4786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440" y="4191840"/>
            <a:ext cx="1683360" cy="228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C6DE-8F26-45C1-8191-B668D0B0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40" y="291600"/>
            <a:ext cx="3449520" cy="12099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440" y="1692000"/>
            <a:ext cx="1683360" cy="4786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958400" y="1692000"/>
            <a:ext cx="1683360" cy="228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58400" y="4191840"/>
            <a:ext cx="1683360" cy="228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5862-13D0-4F48-A0F0-2E77279C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40" y="291600"/>
            <a:ext cx="3449520" cy="12099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440" y="1692000"/>
            <a:ext cx="1683360" cy="228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958400" y="1692000"/>
            <a:ext cx="1683360" cy="228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440" y="4191840"/>
            <a:ext cx="3449520" cy="228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3FED-F7E6-4558-B342-92D1FF0E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40" y="291600"/>
            <a:ext cx="3449520" cy="12099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40" y="1692000"/>
            <a:ext cx="3449520" cy="4786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 fontScale="96000"/>
          </a:bodyPr>
          <a:p>
            <a:pPr marL="226800" indent="-226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3560" indent="-1890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57440" indent="-150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62360" indent="-150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66920" indent="-1522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66920" indent="-1522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66920" indent="-1522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080" y="6605280"/>
            <a:ext cx="893880" cy="501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307880" y="6605280"/>
            <a:ext cx="1214280" cy="501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746440" y="6605280"/>
            <a:ext cx="893520" cy="501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Autofit/>
          </a:bodyPr>
          <a:lstStyle>
            <a:lvl1pPr indent="0" algn="r"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fld id="{0937E176-81F5-4386-B399-A0B5E28811F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3898800" y="235080"/>
            <a:ext cx="2800440" cy="2808000"/>
            <a:chOff x="3898800" y="235080"/>
            <a:chExt cx="2800440" cy="280800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3898800" y="235080"/>
              <a:ext cx="2800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700" spc="-1" strike="noStrike">
                  <a:solidFill>
                    <a:srgbClr val="000000"/>
                  </a:solidFill>
                  <a:latin typeface="ＭＳ Ｐゴシック"/>
                </a:rPr>
                <a:t>スイング</a:t>
              </a:r>
              <a:r>
                <a:rPr b="1" lang="en-US" sz="1700" spc="-1" strike="noStrike">
                  <a:solidFill>
                    <a:srgbClr val="000000"/>
                  </a:solidFill>
                  <a:latin typeface="ＭＳ Ｐゴシック"/>
                </a:rPr>
                <a:t>POP-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4"/>
            <p:cNvSpPr/>
            <p:nvPr/>
          </p:nvSpPr>
          <p:spPr>
            <a:xfrm>
              <a:off x="4071960" y="746280"/>
              <a:ext cx="2453760" cy="10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誤差が生じている場合がありますが、そのまま作成いただいて問題ございません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6"/>
            <p:cNvSpPr/>
            <p:nvPr/>
          </p:nvSpPr>
          <p:spPr>
            <a:xfrm>
              <a:off x="4071600" y="1446120"/>
              <a:ext cx="2454840" cy="15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10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Picture 6" descr="\\10.0.0.53\docs\HaNaMi\2015\販促応援REnovation\テンプレート修正\新テンプレート\スイングPOP\psd\SwingPOP_E.png"/>
          <p:cNvPicPr/>
          <p:nvPr/>
        </p:nvPicPr>
        <p:blipFill>
          <a:blip r:embed="rId1"/>
          <a:stretch/>
        </p:blipFill>
        <p:spPr>
          <a:xfrm>
            <a:off x="0" y="0"/>
            <a:ext cx="3830760" cy="72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10-14T08:28:06Z</dcterms:modified>
  <cp:revision>15</cp:revision>
  <dc:subject/>
  <dc:title>スライド 1</dc:title>
</cp:coreProperties>
</file>