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630863" cy="99679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55160" y="365040"/>
            <a:ext cx="10321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A43-DBA8-45A1-B12E-262D167C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D8A9-CBAD-46AA-A881-F9693A8599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055520" y="365040"/>
            <a:ext cx="103212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6C6-FA95-4C78-B104-62BA328A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9000" y="2327400"/>
            <a:ext cx="507204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9000" y="5763600"/>
            <a:ext cx="507204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569-228C-4EFF-B247-20A8DEDF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9000" y="23274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78200" y="23274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9000" y="57636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78200" y="57636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9C2-5D13-4AE6-97CA-41604690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9000" y="2327400"/>
            <a:ext cx="163296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94040" y="2327400"/>
            <a:ext cx="163296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09080" y="2327400"/>
            <a:ext cx="163296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9000" y="5763600"/>
            <a:ext cx="163296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94040" y="5763600"/>
            <a:ext cx="163296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09080" y="5763600"/>
            <a:ext cx="163296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47D-9F06-4FC9-B0E3-B35D9BD5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9000" y="2327400"/>
            <a:ext cx="50720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99D-6A15-4AA9-B35D-FA02CCD8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9000" y="2327400"/>
            <a:ext cx="5072040" cy="657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8AF-9043-4F85-BFFE-F60C9566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9000" y="2327400"/>
            <a:ext cx="2475000" cy="657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78200" y="2327400"/>
            <a:ext cx="2475000" cy="657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81D-9AD5-4608-A712-E0FB28BB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215-0D40-433C-8BCD-E1C88963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9000" y="401400"/>
            <a:ext cx="5072040" cy="77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643-157B-4BF0-AE29-E061D7C6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9000" y="23274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78200" y="2327400"/>
            <a:ext cx="2475000" cy="657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9000" y="57636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5CC-527E-471E-ADA9-4FEB31B0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9000" y="2327400"/>
            <a:ext cx="2475000" cy="657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78200" y="23274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78200" y="57636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85D-D980-44B5-B06E-A43E5DCB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9000" y="23274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78200" y="2327400"/>
            <a:ext cx="247500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9000" y="5763600"/>
            <a:ext cx="5072040" cy="313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446-CFF7-4641-8FB5-FA1E6EB6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9000" y="401400"/>
            <a:ext cx="5072040" cy="16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9000" y="2327400"/>
            <a:ext cx="5072040" cy="657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 fontScale="94000"/>
          </a:bodyPr>
          <a:p>
            <a:pPr marL="313200" indent="-313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0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44360" indent="-208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465200" indent="-20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883160" indent="-210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883160" indent="-210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883160" indent="-210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9000" y="9082080"/>
            <a:ext cx="1314360" cy="689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24200" y="9082080"/>
            <a:ext cx="1782720" cy="689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6680" y="9082080"/>
            <a:ext cx="1314360" cy="689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fld id="{BF58B615-07C7-4242-AF2A-0FBAC2A6EFF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5730840" y="322200"/>
            <a:ext cx="4118040" cy="4221360"/>
            <a:chOff x="5730840" y="322200"/>
            <a:chExt cx="4118040" cy="42213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5730840" y="322200"/>
              <a:ext cx="411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スイング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</a:rPr>
                <a:t>POP-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4"/>
            <p:cNvSpPr/>
            <p:nvPr/>
          </p:nvSpPr>
          <p:spPr>
            <a:xfrm>
              <a:off x="5985720" y="1025280"/>
              <a:ext cx="3608280" cy="15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6"/>
            <p:cNvSpPr/>
            <p:nvPr/>
          </p:nvSpPr>
          <p:spPr>
            <a:xfrm>
              <a:off x="5985000" y="2347200"/>
              <a:ext cx="3609720" cy="21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7" descr="\\10.0.0.53\docs\HaNaMi\2015\販促応援REnovation\テンプレート修正\新テンプレート\スイングPOP\psd\SwingPOP_F.png"/>
          <p:cNvPicPr/>
          <p:nvPr/>
        </p:nvPicPr>
        <p:blipFill>
          <a:blip r:embed="rId1"/>
          <a:stretch/>
        </p:blipFill>
        <p:spPr>
          <a:xfrm>
            <a:off x="0" y="1440"/>
            <a:ext cx="5630760" cy="996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14T08:29:33Z</dcterms:modified>
  <cp:revision>16</cp:revision>
  <dc:subject/>
  <dc:title>スライド 1</dc:title>
</cp:coreProperties>
</file>