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546600" cy="7613650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25640" y="365040"/>
            <a:ext cx="10922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0FB4-DD01-42C2-9075-51E1CD869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645C-8149-4A86-AE1E-330CEE7077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025640" y="365040"/>
            <a:ext cx="109224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2C33-262F-424C-803F-21D72903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7160" y="306360"/>
            <a:ext cx="4093920" cy="12700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ctr">
            <a:noAutofit/>
          </a:bodyPr>
          <a:p>
            <a:pPr indent="0" algn="ct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7160" y="1775880"/>
            <a:ext cx="4093920" cy="2396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7160" y="4400640"/>
            <a:ext cx="4093920" cy="2396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856-7724-49DE-A3DD-9058F0A3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7160" y="306360"/>
            <a:ext cx="4093920" cy="12700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ctr">
            <a:noAutofit/>
          </a:bodyPr>
          <a:p>
            <a:pPr indent="0" algn="ct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7160" y="1775880"/>
            <a:ext cx="1997640" cy="2396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25240" y="1775880"/>
            <a:ext cx="1997640" cy="2396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7160" y="4400640"/>
            <a:ext cx="1997640" cy="2396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25240" y="4400640"/>
            <a:ext cx="1997640" cy="2396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BC76-5220-4850-9CAF-F2ACBBA1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7160" y="306360"/>
            <a:ext cx="4093920" cy="12700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ctr">
            <a:noAutofit/>
          </a:bodyPr>
          <a:p>
            <a:pPr indent="0" algn="ct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7160" y="1775880"/>
            <a:ext cx="1317960" cy="2396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11360" y="1775880"/>
            <a:ext cx="1317960" cy="2396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95560" y="1775880"/>
            <a:ext cx="1317960" cy="2396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7160" y="4400640"/>
            <a:ext cx="1317960" cy="2396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11360" y="4400640"/>
            <a:ext cx="1317960" cy="2396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95560" y="4400640"/>
            <a:ext cx="1317960" cy="2396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A41-7B95-4686-BF7E-163C8846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7160" y="306360"/>
            <a:ext cx="4093920" cy="12700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ctr">
            <a:noAutofit/>
          </a:bodyPr>
          <a:p>
            <a:pPr indent="0" algn="ct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7160" y="1775880"/>
            <a:ext cx="409392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504-D7AD-4CFD-B06A-F3304D86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7160" y="306360"/>
            <a:ext cx="4093920" cy="12700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ctr">
            <a:noAutofit/>
          </a:bodyPr>
          <a:p>
            <a:pPr indent="0" algn="ct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7160" y="1775880"/>
            <a:ext cx="4093920" cy="5024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20D-D03E-4429-A23A-7CF470E1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7160" y="306360"/>
            <a:ext cx="4093920" cy="12700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ctr">
            <a:noAutofit/>
          </a:bodyPr>
          <a:p>
            <a:pPr indent="0" algn="ct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7160" y="1775880"/>
            <a:ext cx="1997640" cy="5024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25240" y="1775880"/>
            <a:ext cx="1997640" cy="5024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108-EA9A-4281-9655-A31B9748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7160" y="306360"/>
            <a:ext cx="4093920" cy="12700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ctr">
            <a:noAutofit/>
          </a:bodyPr>
          <a:p>
            <a:pPr indent="0" algn="ct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2F7-6DEF-4B31-B628-B06E8F6F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7160" y="306360"/>
            <a:ext cx="4093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CBA-1DA6-411D-BF58-A5E99F75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160" y="306360"/>
            <a:ext cx="4093920" cy="12700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ctr">
            <a:noAutofit/>
          </a:bodyPr>
          <a:p>
            <a:pPr indent="0" algn="ct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7160" y="1775880"/>
            <a:ext cx="1997640" cy="2396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25240" y="1775880"/>
            <a:ext cx="1997640" cy="5024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7160" y="4400640"/>
            <a:ext cx="1997640" cy="2396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D2CC-F057-44D5-AAF9-ACBE7001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7160" y="306360"/>
            <a:ext cx="4093920" cy="12700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ctr">
            <a:noAutofit/>
          </a:bodyPr>
          <a:p>
            <a:pPr indent="0" algn="ct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7160" y="1775880"/>
            <a:ext cx="1997640" cy="5024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25240" y="1775880"/>
            <a:ext cx="1997640" cy="2396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25240" y="4400640"/>
            <a:ext cx="1997640" cy="2396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3A6-1383-4FF5-946B-81A07E34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7160" y="306360"/>
            <a:ext cx="4093920" cy="12700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ctr">
            <a:noAutofit/>
          </a:bodyPr>
          <a:p>
            <a:pPr indent="0" algn="ct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7160" y="1775880"/>
            <a:ext cx="1997640" cy="2396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25240" y="1775880"/>
            <a:ext cx="1997640" cy="2396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7160" y="4400640"/>
            <a:ext cx="4093920" cy="2396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22CD-C8C4-41E4-B8F0-6E46437B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7160" y="306360"/>
            <a:ext cx="4093920" cy="127008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ctr">
            <a:noAutofit/>
          </a:bodyPr>
          <a:p>
            <a:pPr indent="0" algn="ct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7160" y="1775880"/>
            <a:ext cx="4093920" cy="502452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rmAutofit fontScale="98000"/>
          </a:bodyPr>
          <a:p>
            <a:pPr marL="254880" indent="-2548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116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49240" indent="-1695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189800" indent="-1692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530720" indent="-171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530720" indent="-171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530720" indent="-171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6800" y="6933960"/>
            <a:ext cx="1060200" cy="5252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54120" y="6933960"/>
            <a:ext cx="1440000" cy="5252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60520" y="6933960"/>
            <a:ext cx="1060200" cy="525240"/>
          </a:xfrm>
          <a:prstGeom prst="rect">
            <a:avLst/>
          </a:prstGeom>
          <a:noFill/>
          <a:ln w="0">
            <a:noFill/>
          </a:ln>
        </p:spPr>
        <p:txBody>
          <a:bodyPr lIns="69480" rIns="69480" tIns="34560" bIns="34560" anchor="t">
            <a:noAutofit/>
          </a:bodyPr>
          <a:lstStyle>
            <a:lvl1pPr indent="0" algn="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fld id="{B0A23EA7-5D55-4E48-B4C2-4F271628F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4629240" y="246240"/>
            <a:ext cx="3325680" cy="2947680"/>
            <a:chOff x="4629240" y="246240"/>
            <a:chExt cx="3325680" cy="294768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4629240" y="246240"/>
              <a:ext cx="3325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900" spc="-1" strike="noStrike">
                  <a:solidFill>
                    <a:srgbClr val="000000"/>
                  </a:solidFill>
                  <a:latin typeface="ＭＳ Ｐゴシック"/>
                </a:rPr>
                <a:t>スイング</a:t>
              </a:r>
              <a:r>
                <a:rPr b="1" lang="en-US" sz="1900" spc="-1" strike="noStrike">
                  <a:solidFill>
                    <a:srgbClr val="000000"/>
                  </a:solidFill>
                  <a:latin typeface="ＭＳ Ｐゴシック"/>
                </a:rPr>
                <a:t>POP-B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4"/>
            <p:cNvSpPr/>
            <p:nvPr/>
          </p:nvSpPr>
          <p:spPr>
            <a:xfrm>
              <a:off x="4835160" y="782640"/>
              <a:ext cx="2913840" cy="11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6"/>
            <p:cNvSpPr/>
            <p:nvPr/>
          </p:nvSpPr>
          <p:spPr>
            <a:xfrm>
              <a:off x="4834440" y="1517400"/>
              <a:ext cx="2915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0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3" descr="\\10.0.0.53\docs\HaNaMi\2015\販促応援REnovation\テンプレート修正\新テンプレート\スイングPOP\psd\SwingPOP_B.png"/>
          <p:cNvPicPr/>
          <p:nvPr/>
        </p:nvPicPr>
        <p:blipFill>
          <a:blip r:embed="rId1"/>
          <a:stretch/>
        </p:blipFill>
        <p:spPr>
          <a:xfrm>
            <a:off x="0" y="0"/>
            <a:ext cx="4548240" cy="76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10-14T08:24:13Z</dcterms:modified>
  <cp:revision>12</cp:revision>
  <dc:subject/>
  <dc:title>スライド 1</dc:title>
</cp:coreProperties>
</file>