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751138" cy="61706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3160" y="365040"/>
            <a:ext cx="8161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1FC4-716D-414F-8CEB-D8683584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224A-25E5-4E16-A029-3FA92A59F8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63520" y="365040"/>
            <a:ext cx="81612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69E-2F26-4910-920A-8078DB9E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2478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440" y="3566880"/>
            <a:ext cx="2478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9FA-EC93-4E5F-8D28-3F517EF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6520" y="143964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440" y="356688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6520" y="356688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88A-C3C5-4DAC-9A82-F349D846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79776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4520" y="1439640"/>
            <a:ext cx="79776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12600" y="1439640"/>
            <a:ext cx="79776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440" y="3566880"/>
            <a:ext cx="79776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4520" y="3566880"/>
            <a:ext cx="79776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12600" y="3566880"/>
            <a:ext cx="79776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5B5-3097-4CFF-8EC8-10C3BDD8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440" y="1439640"/>
            <a:ext cx="24782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DBD-91AC-4CF7-8C28-1FBAAE8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2478240" cy="40719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6B7-94C1-43FB-A2F5-3660395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1209240" cy="40719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6520" y="1439640"/>
            <a:ext cx="1209240" cy="40719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515-0428-4859-92A9-0FEF40DB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73F-B7BD-4DF0-9B14-BC0DA580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440" y="249120"/>
            <a:ext cx="247824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1B5-49DB-451B-907A-D9FF1F8F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6520" y="1439640"/>
            <a:ext cx="1209240" cy="40719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440" y="356688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440-06A7-4163-8DFB-AA079387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1209240" cy="40719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6520" y="143964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6520" y="356688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CA4-76FD-4602-A3FA-EBA38FBE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440" y="143964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6520" y="1439640"/>
            <a:ext cx="1209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440" y="3566880"/>
            <a:ext cx="2478240" cy="19422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42D-0CEE-46D8-AB3D-BE8A37F7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440" y="249120"/>
            <a:ext cx="2478240" cy="10288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440" y="1439640"/>
            <a:ext cx="2478240" cy="40719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 fontScale="87000"/>
          </a:bodyPr>
          <a:p>
            <a:pPr marL="165600" indent="-165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378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52240" indent="-110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774720" indent="-11052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997200" indent="-1105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997200" indent="-1105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997200" indent="-1105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6440" y="5621400"/>
            <a:ext cx="641520" cy="4255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9960" y="5621400"/>
            <a:ext cx="871200" cy="4255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73160" y="5621400"/>
            <a:ext cx="641520" cy="4255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fld id="{60A587BB-F6B1-48EA-91E7-2F2CF24E8A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800440" y="200160"/>
            <a:ext cx="2011320" cy="2388960"/>
            <a:chOff x="2800440" y="200160"/>
            <a:chExt cx="2011320" cy="23889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800440" y="200160"/>
              <a:ext cx="201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スイング</a:t>
              </a: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POP-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4"/>
            <p:cNvSpPr/>
            <p:nvPr/>
          </p:nvSpPr>
          <p:spPr>
            <a:xfrm>
              <a:off x="2924640" y="635040"/>
              <a:ext cx="176256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6"/>
            <p:cNvSpPr/>
            <p:nvPr/>
          </p:nvSpPr>
          <p:spPr>
            <a:xfrm>
              <a:off x="2924280" y="1230480"/>
              <a:ext cx="176328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" descr="\\10.0.0.53\docs\HaNaMi\2015\販促応援REnovation\テンプレート修正\新テンプレート\スイングPOP\psd\SwingPOP_D.png"/>
          <p:cNvPicPr/>
          <p:nvPr/>
        </p:nvPicPr>
        <p:blipFill>
          <a:blip r:embed="rId1"/>
          <a:stretch/>
        </p:blipFill>
        <p:spPr>
          <a:xfrm>
            <a:off x="3240" y="0"/>
            <a:ext cx="2747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14T08:26:40Z</dcterms:modified>
  <cp:revision>14</cp:revision>
  <dc:subject/>
  <dc:title>スライド 1</dc:title>
</cp:coreProperties>
</file>