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830638" cy="6264275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4120" y="365040"/>
            <a:ext cx="111420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E6A9-7494-46A2-B7F8-A36515155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4298-0D1E-4330-8FC3-61CCA439FB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014480" y="365040"/>
            <a:ext cx="111420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E3C-4CEB-4852-B907-59949517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40" y="252360"/>
            <a:ext cx="3449520" cy="1044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40" y="1461600"/>
            <a:ext cx="344952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40" y="3620880"/>
            <a:ext cx="344952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A83-9FB9-4DF6-A16D-F9DC34C4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40" y="252360"/>
            <a:ext cx="3449520" cy="1044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40" y="1461600"/>
            <a:ext cx="168336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58400" y="1461600"/>
            <a:ext cx="168336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40" y="3620880"/>
            <a:ext cx="168336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58400" y="3620880"/>
            <a:ext cx="168336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90D-84F1-41C8-9AF0-4BE40C88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40" y="252360"/>
            <a:ext cx="3449520" cy="1044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40" y="1461600"/>
            <a:ext cx="111060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56840" y="1461600"/>
            <a:ext cx="111060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3600" y="1461600"/>
            <a:ext cx="111060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40" y="3620880"/>
            <a:ext cx="111060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56840" y="3620880"/>
            <a:ext cx="111060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3600" y="3620880"/>
            <a:ext cx="111060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64C-3EE3-48B0-9616-B84F54F2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40" y="252360"/>
            <a:ext cx="3449520" cy="1044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40" y="1461600"/>
            <a:ext cx="34495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3F3-99FD-44FC-B702-64FB1085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40" y="252360"/>
            <a:ext cx="3449520" cy="1044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40" y="1461600"/>
            <a:ext cx="3449520" cy="413388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52E-88BF-4CEB-BA0E-EF4ACF1D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40" y="252360"/>
            <a:ext cx="3449520" cy="1044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40" y="1461600"/>
            <a:ext cx="1683360" cy="413388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58400" y="1461600"/>
            <a:ext cx="1683360" cy="413388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692E-1DFA-488C-B11D-D0A08ACF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40" y="252360"/>
            <a:ext cx="3449520" cy="1044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735-276A-43E2-B1B2-7DC889C3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40" y="252360"/>
            <a:ext cx="344952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AB5-F2DE-4666-9F77-999C176E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40" y="252360"/>
            <a:ext cx="3449520" cy="1044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40" y="1461600"/>
            <a:ext cx="168336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58400" y="1461600"/>
            <a:ext cx="1683360" cy="413388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40" y="3620880"/>
            <a:ext cx="168336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7DC-F6F3-4C56-A1CB-E1354E4B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40" y="252360"/>
            <a:ext cx="3449520" cy="1044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40" y="1461600"/>
            <a:ext cx="1683360" cy="413388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58400" y="1461600"/>
            <a:ext cx="168336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58400" y="3620880"/>
            <a:ext cx="168336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1E4-7DD0-4FFD-AD5E-FD4B43E2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40" y="252360"/>
            <a:ext cx="3449520" cy="1044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40" y="1461600"/>
            <a:ext cx="168336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58400" y="1461600"/>
            <a:ext cx="168336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40" y="3620880"/>
            <a:ext cx="3449520" cy="1971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CCC-699B-495C-9490-FC733F83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40" y="252360"/>
            <a:ext cx="3449520" cy="1044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40" y="1461600"/>
            <a:ext cx="3449520" cy="413388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 fontScale="97000"/>
          </a:bodyPr>
          <a:p>
            <a:pPr marL="209520" indent="-209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1738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97680" indent="-13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977760" indent="-13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257840" indent="-1400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257840" indent="-1400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257840" indent="-1400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080" y="5706720"/>
            <a:ext cx="893880" cy="43164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07880" y="5706720"/>
            <a:ext cx="1214280" cy="43164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46440" y="5706720"/>
            <a:ext cx="893520" cy="43164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Autofit/>
          </a:bodyPr>
          <a:lstStyle>
            <a:lvl1pPr indent="0" algn="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fld id="{C057F3E7-196B-4208-AF2D-31BAF778F5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3898800" y="203040"/>
            <a:ext cx="2800440" cy="2426040"/>
            <a:chOff x="3898800" y="203040"/>
            <a:chExt cx="2800440" cy="24260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3898800" y="203040"/>
              <a:ext cx="2800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ＭＳ Ｐゴシック"/>
                </a:rPr>
                <a:t>スイング</a:t>
              </a:r>
              <a:r>
                <a:rPr b="1" lang="en-US" sz="1600" spc="-1" strike="noStrike">
                  <a:solidFill>
                    <a:srgbClr val="000000"/>
                  </a:solidFill>
                  <a:latin typeface="ＭＳ Ｐゴシック"/>
                </a:rPr>
                <a:t>POP-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4"/>
            <p:cNvSpPr/>
            <p:nvPr/>
          </p:nvSpPr>
          <p:spPr>
            <a:xfrm>
              <a:off x="4071960" y="644760"/>
              <a:ext cx="245376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6"/>
            <p:cNvSpPr/>
            <p:nvPr/>
          </p:nvSpPr>
          <p:spPr>
            <a:xfrm>
              <a:off x="4071600" y="1249200"/>
              <a:ext cx="2454840" cy="13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0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4" descr="\\10.0.0.53\docs\HaNaMi\2015\販促応援REnovation\テンプレート修正\新テンプレート\スイングPOP\psd\SwingPOP_C.png"/>
          <p:cNvPicPr/>
          <p:nvPr/>
        </p:nvPicPr>
        <p:blipFill>
          <a:blip r:embed="rId1"/>
          <a:stretch/>
        </p:blipFill>
        <p:spPr>
          <a:xfrm>
            <a:off x="0" y="1440"/>
            <a:ext cx="383076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10-14T08:25:36Z</dcterms:modified>
  <cp:revision>13</cp:revision>
  <dc:subject/>
  <dc:title>スライド 1</dc:title>
</cp:coreProperties>
</file>