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70275" cy="53609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9200" y="365040"/>
            <a:ext cx="1184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C4D-70B8-45DE-98E7-A67F1DF8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39E-404A-4921-B870-2FC651518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79560" y="365040"/>
            <a:ext cx="1184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DA0-E6C8-4E85-8F16-B15005D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312408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3160" y="3098880"/>
            <a:ext cx="312408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A86-A84A-4131-922A-CF4CD05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7408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160" y="309888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74080" y="309888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757-C834-4E0F-B82A-689136DE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9760" y="125064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360" y="125064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3160" y="309888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29760" y="309888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86360" y="3098880"/>
            <a:ext cx="10058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B2C-D387-49C6-9C36-5586670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3160" y="1250640"/>
            <a:ext cx="312408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289-D687-4889-A637-BEC5B42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312408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54B-92DA-4FDC-B1E1-728987B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52424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74080" y="1250640"/>
            <a:ext cx="152424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AD2-EBEF-4A02-8D3F-7BCFE41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EE2-A6F3-44C4-BD12-1BE309D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160" y="216000"/>
            <a:ext cx="3124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84E-25E8-4D5A-86CF-BA428F2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74080" y="1250640"/>
            <a:ext cx="152424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3160" y="309888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06C-C868-4D3A-9694-B75F01C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52424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7408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74080" y="309888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F4D-F105-4A13-8231-209F479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316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74080" y="1250640"/>
            <a:ext cx="152424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3160" y="3098880"/>
            <a:ext cx="3124080" cy="1687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EDF-5289-49C8-BF72-125A8AD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160" y="216000"/>
            <a:ext cx="3124080" cy="893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160" y="1250640"/>
            <a:ext cx="3124080" cy="3538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rmAutofit/>
          </a:bodyPr>
          <a:p>
            <a:pPr marL="189000" indent="-189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9680" indent="-157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82720" indent="-1256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35080" indent="-127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35080" indent="-127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35080" indent="-127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800" y="4883040"/>
            <a:ext cx="809640" cy="371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5840" y="4883040"/>
            <a:ext cx="1098720" cy="371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87240" y="4883040"/>
            <a:ext cx="809640" cy="3715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25200" bIns="25200" anchor="t">
            <a:noAutofit/>
          </a:bodyPr>
          <a:lstStyle>
            <a:lvl1pPr indent="0" algn="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007E4E2-04E5-4D8C-ABBC-0E6F5BD896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532320" y="173160"/>
            <a:ext cx="2536560" cy="2367000"/>
            <a:chOff x="3532320" y="173160"/>
            <a:chExt cx="2536560" cy="23670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532320" y="173160"/>
              <a:ext cx="2536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スイング</a:t>
              </a: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POP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4"/>
            <p:cNvSpPr/>
            <p:nvPr/>
          </p:nvSpPr>
          <p:spPr>
            <a:xfrm>
              <a:off x="3689280" y="550800"/>
              <a:ext cx="2222640" cy="8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6"/>
            <p:cNvSpPr/>
            <p:nvPr/>
          </p:nvSpPr>
          <p:spPr>
            <a:xfrm>
              <a:off x="3688560" y="1359720"/>
              <a:ext cx="2223720" cy="11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" descr="\\10.0.0.53\docs\HaNaMi\2015\販促応援REnovation\テンプレート修正\新テンプレート\スイングPOP\psd\SwingPOP_A.png"/>
          <p:cNvPicPr/>
          <p:nvPr/>
        </p:nvPicPr>
        <p:blipFill>
          <a:blip r:embed="rId1"/>
          <a:stretch/>
        </p:blipFill>
        <p:spPr>
          <a:xfrm>
            <a:off x="0" y="0"/>
            <a:ext cx="34704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14T08:14:07Z</dcterms:modified>
  <cp:revision>11</cp:revision>
  <dc:subject/>
  <dc:title>スライド 1</dc:title>
</cp:coreProperties>
</file>