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00450" cy="53276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3640" y="365040"/>
            <a:ext cx="12351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B03A-4790-4BB8-9BE3-66BAD6D02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4041-2577-45EA-B750-D66D4C291A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54000" y="365040"/>
            <a:ext cx="12351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C96-1395-44C9-A13B-99AF49EB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324180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920" y="3081600"/>
            <a:ext cx="324180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1C7-7455-4171-A247-7C058A16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03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920" y="308160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0320" y="308160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2ED-203B-4FDF-8FDA-E14C1632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75120" y="124452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1320" y="124452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920" y="308160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75120" y="308160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1320" y="308160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8D8-1CF0-4D07-AAC6-32F64282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920" y="1244520"/>
            <a:ext cx="3241800" cy="35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459-9985-44DB-B5DC-7387025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324180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8D0-985D-4A06-87FF-0E34FC23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58184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0320" y="1244520"/>
            <a:ext cx="158184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B40-547E-4BA3-B4AF-C5EE528C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7FF-A8CB-4AF9-BE22-901CE9AC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8920" y="213840"/>
            <a:ext cx="3241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C74-F1A5-4929-B497-FD06A997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0320" y="1244520"/>
            <a:ext cx="158184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920" y="308160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D47-0533-4391-B720-1854060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58184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03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0320" y="308160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B3A-83C5-45A1-867C-443ACA3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03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081600"/>
            <a:ext cx="324180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6BF-9EBC-48C9-9996-79CABEA1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244520"/>
            <a:ext cx="324180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marL="192240" indent="-192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60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36480" indent="-1267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892080" indent="-127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1494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1494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1494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8920" y="4854240"/>
            <a:ext cx="839880" cy="3682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30480" y="4854240"/>
            <a:ext cx="1139760" cy="3682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80840" y="4854240"/>
            <a:ext cx="839880" cy="3682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indent="0" algn="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ABFB15AB-94FA-4006-A6B1-8C979A18C4B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808440" y="77760"/>
            <a:ext cx="3897360" cy="3338640"/>
            <a:chOff x="3808440" y="77760"/>
            <a:chExt cx="3897360" cy="33386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808440" y="77760"/>
              <a:ext cx="389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テンプレート：はがき（縦向き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4113360" y="465840"/>
              <a:ext cx="3287520" cy="84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00m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48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4048920" y="1398960"/>
              <a:ext cx="341640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誤差が生じている場合がありますが、そのまま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作成いただいて問題ございません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4048920" y="2255760"/>
              <a:ext cx="34164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0:48:53Z</dcterms:modified>
  <cp:revision>4</cp:revision>
  <dc:subject/>
  <dc:title>スライド 1</dc:title>
</cp:coreProperties>
</file>