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19588" cy="84597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480" y="365040"/>
            <a:ext cx="93348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0078-BFAE-4076-B895-0A032EFFA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B0B4-F786-409D-B9DC-AA39CA871A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04840" y="365040"/>
            <a:ext cx="93348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72E-4A62-493F-84ED-E5D3BFEC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976040"/>
            <a:ext cx="388944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4892400"/>
            <a:ext cx="388944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47F-29F9-4F22-812B-F411CED6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97604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9320" y="197604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489240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9320" y="489240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025-F63B-4818-93E2-68D8D71C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976040"/>
            <a:ext cx="125208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1080" y="1976040"/>
            <a:ext cx="125208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6160" y="1976040"/>
            <a:ext cx="125208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4892400"/>
            <a:ext cx="125208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1080" y="4892400"/>
            <a:ext cx="125208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6160" y="4892400"/>
            <a:ext cx="125208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FC9-9A14-4BBB-B388-F6F6E8A1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976040"/>
            <a:ext cx="388944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E15-FA5C-4C5A-BB1C-FFB0868C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976040"/>
            <a:ext cx="3889440" cy="5583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75C-678C-4267-93AB-617301BB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976040"/>
            <a:ext cx="1897920" cy="5583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9320" y="1976040"/>
            <a:ext cx="1897920" cy="5583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C7D-C894-47FC-B22F-1C3CC650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968-E1F9-4757-878F-5129A701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339840"/>
            <a:ext cx="38894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2C4-15D1-4AE3-807C-4F8B82D2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97604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9320" y="1976040"/>
            <a:ext cx="1897920" cy="5583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489240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23D-E233-49E1-9921-50AEAE9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976040"/>
            <a:ext cx="1897920" cy="5583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9320" y="197604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9320" y="489240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CD0-71D0-4D2B-8D6A-C6BE98F2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97604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9320" y="1976040"/>
            <a:ext cx="189792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4892400"/>
            <a:ext cx="3889440" cy="2662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2ED-82DB-4175-BE90-D3CC76FA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339840"/>
            <a:ext cx="3889440" cy="1409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976040"/>
            <a:ext cx="3889440" cy="5583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6000"/>
          </a:bodyPr>
          <a:p>
            <a:pPr marL="263520" indent="-263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320" indent="-219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73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225080" indent="-173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578600" indent="-1778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578600" indent="-1778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578600" indent="-1778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00" y="7706880"/>
            <a:ext cx="1008000" cy="585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7706880"/>
            <a:ext cx="1368360" cy="585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720" y="7706880"/>
            <a:ext cx="1008360" cy="585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lstStyle>
            <a:lvl1pPr indent="0" algn="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fld id="{DD4E36E3-9941-4E40-845F-F0F819972F2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4570560" y="123840"/>
            <a:ext cx="4678200" cy="5300640"/>
            <a:chOff x="4570560" y="123840"/>
            <a:chExt cx="4678200" cy="5300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4570560" y="123840"/>
              <a:ext cx="4678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600" spc="-1" strike="noStrike">
                  <a:solidFill>
                    <a:srgbClr val="000000"/>
                  </a:solidFill>
                  <a:latin typeface="ＭＳ Ｐゴシック"/>
                </a:rPr>
                <a:t>テンプレート：はがき（縦向き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4936320" y="740160"/>
              <a:ext cx="3946320" cy="1060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23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23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2300" spc="-1" strike="noStrike">
                  <a:solidFill>
                    <a:srgbClr val="000000"/>
                  </a:solidFill>
                  <a:latin typeface="ＭＳ Ｐゴシック"/>
                </a:rPr>
                <a:t>120mm</a:t>
              </a: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3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2300" spc="-1" strike="noStrike">
                  <a:solidFill>
                    <a:srgbClr val="000000"/>
                  </a:solidFill>
                  <a:latin typeface="ＭＳ Ｐゴシック"/>
                </a:rPr>
                <a:t>235m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4773600" y="2202480"/>
              <a:ext cx="4247280" cy="13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859280" y="3582000"/>
              <a:ext cx="4100760" cy="18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7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7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7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10-08T11:24:44Z</dcterms:modified>
  <cp:revision>5</cp:revision>
  <dc:subject/>
  <dc:title>スライド 1</dc:title>
</cp:coreProperties>
</file>