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327650" cy="36004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0320" y="365040"/>
            <a:ext cx="27018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045-37DE-43AB-806E-E4F47207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7DE-0F09-454C-B44B-B9E356260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20680" y="365040"/>
            <a:ext cx="27018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8EC-E087-448E-8204-8FA5939D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479916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600" y="2081520"/>
            <a:ext cx="479916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2ED-F972-4F60-A240-44C90C4C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76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600" y="208152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760" y="208152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393-232F-4515-8B66-771212FB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87480" y="84096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0000" y="84096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600" y="208152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87480" y="208152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0000" y="2081520"/>
            <a:ext cx="154512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19F-BD0C-415E-A49F-51559225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600" y="840960"/>
            <a:ext cx="47991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33D-0490-4409-B98A-FAA81A5A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479916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7FC-A753-4D21-B516-623FF08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234180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760" y="840960"/>
            <a:ext cx="234180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E7A-169E-4B3E-BA92-608EDEC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266-99FF-430C-AEF9-CF0DDD6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600" y="144000"/>
            <a:ext cx="4799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BE3-5C74-45A8-9224-D3F01DC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760" y="840960"/>
            <a:ext cx="234180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600" y="208152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18B-3CB7-4CAD-82D6-E7F9E46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234180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76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760" y="208152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217-850D-4CE2-94A6-67E70E15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60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760" y="840960"/>
            <a:ext cx="234180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600" y="2081520"/>
            <a:ext cx="4799160" cy="11325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793-B636-46ED-BADB-EFF708B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600" y="144000"/>
            <a:ext cx="4799160" cy="6001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600" y="840960"/>
            <a:ext cx="4799160" cy="23749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 fontScale="97000"/>
          </a:bodyPr>
          <a:p>
            <a:pPr marL="186120" indent="-1861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155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27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65080" indent="-12312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14920" indent="-1263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14920" indent="-1263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14920" indent="-1263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4600" y="3279240"/>
            <a:ext cx="1243080" cy="249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0520" y="3279240"/>
            <a:ext cx="1687320" cy="249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0680" y="3279240"/>
            <a:ext cx="1243080" cy="249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F9A78784-8025-4587-AB54-F46BDE40637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6"/>
          <p:cNvGrpSpPr/>
          <p:nvPr/>
        </p:nvGrpSpPr>
        <p:grpSpPr>
          <a:xfrm>
            <a:off x="5611680" y="95400"/>
            <a:ext cx="3897360" cy="3336840"/>
            <a:chOff x="5611680" y="95400"/>
            <a:chExt cx="3897360" cy="33368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5611680" y="9540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はがき（横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5916600" y="48312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0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5852160" y="1415880"/>
              <a:ext cx="34164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5852160" y="2272320"/>
              <a:ext cx="3416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0:49:10Z</dcterms:modified>
  <cp:revision>5</cp:revision>
  <dc:subject/>
  <dc:title>スライド 1</dc:title>
</cp:coreProperties>
</file>