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459788" cy="4319588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-216360" y="365040"/>
            <a:ext cx="357516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57DB-AE06-4CE5-814A-9EA2EEFDB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98EC-AD8C-4857-9807-4879C481DF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-216000" y="365040"/>
            <a:ext cx="357516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191-4A90-4B9F-93C9-B6ED0358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0840" y="173160"/>
            <a:ext cx="7619760" cy="72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0840" y="1009440"/>
            <a:ext cx="7619760" cy="1359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0840" y="2498760"/>
            <a:ext cx="7619760" cy="1359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C34-2471-48F0-81D6-C70E0063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0840" y="173160"/>
            <a:ext cx="7619760" cy="72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0840" y="1009440"/>
            <a:ext cx="3718080" cy="1359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5040" y="1009440"/>
            <a:ext cx="3718080" cy="1359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0840" y="2498760"/>
            <a:ext cx="3718080" cy="1359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25040" y="2498760"/>
            <a:ext cx="3718080" cy="1359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17D-5503-40A6-BDBA-C1A8C33A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0840" y="173160"/>
            <a:ext cx="7619760" cy="72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0840" y="1009440"/>
            <a:ext cx="2453400" cy="1359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7360" y="1009440"/>
            <a:ext cx="2453400" cy="1359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73880" y="1009440"/>
            <a:ext cx="2453400" cy="1359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0840" y="2498760"/>
            <a:ext cx="2453400" cy="1359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7360" y="2498760"/>
            <a:ext cx="2453400" cy="1359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73880" y="2498760"/>
            <a:ext cx="2453400" cy="1359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703-FB60-42C1-8E3D-2697A954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0840" y="173160"/>
            <a:ext cx="7619760" cy="72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0840" y="1009440"/>
            <a:ext cx="7619760" cy="28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64C-EA98-42A9-AAED-2BDA8110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0840" y="173160"/>
            <a:ext cx="7619760" cy="72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0840" y="1009440"/>
            <a:ext cx="7619760" cy="28508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021-9A3B-440A-ADFE-78999279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0840" y="173160"/>
            <a:ext cx="7619760" cy="72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0840" y="1009440"/>
            <a:ext cx="3718080" cy="28508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25040" y="1009440"/>
            <a:ext cx="3718080" cy="28508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D8C-F6C8-4AE0-82F4-FE10526B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0840" y="173160"/>
            <a:ext cx="7619760" cy="72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258-1E07-4C5A-865E-9897BF7C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0840" y="173160"/>
            <a:ext cx="76197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A3C-262D-48D2-8DEF-BF787DA6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0840" y="173160"/>
            <a:ext cx="7619760" cy="72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0840" y="1009440"/>
            <a:ext cx="3718080" cy="1359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25040" y="1009440"/>
            <a:ext cx="3718080" cy="28508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0840" y="2498760"/>
            <a:ext cx="3718080" cy="1359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DB7-8443-46FC-8E27-759BAF3E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0840" y="173160"/>
            <a:ext cx="7619760" cy="72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0840" y="1009440"/>
            <a:ext cx="3718080" cy="28508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25040" y="1009440"/>
            <a:ext cx="3718080" cy="1359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25040" y="2498760"/>
            <a:ext cx="3718080" cy="1359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B428-E65F-46D9-982F-39D678B0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0840" y="173160"/>
            <a:ext cx="7619760" cy="72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0840" y="1009440"/>
            <a:ext cx="3718080" cy="1359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25040" y="1009440"/>
            <a:ext cx="3718080" cy="1359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0840" y="2498760"/>
            <a:ext cx="7619760" cy="1359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FF1-990C-46F6-8EE2-22EDB625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0840" y="173160"/>
            <a:ext cx="7619760" cy="72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0840" y="1009440"/>
            <a:ext cx="7619760" cy="28508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 fontScale="81000"/>
          </a:bodyPr>
          <a:p>
            <a:pPr marL="222480" indent="-222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82040" indent="-1850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736560" indent="-1465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33560" indent="-146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32000" indent="-150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32000" indent="-150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32000" indent="-150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0480" y="3936600"/>
            <a:ext cx="1973160" cy="298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0800" y="3936600"/>
            <a:ext cx="2679840" cy="298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067080" y="3936600"/>
            <a:ext cx="1973160" cy="298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lstStyle>
            <a:lvl1pPr indent="0" algn="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fld id="{30EFA2FB-8C0B-44C7-8D05-AE77BA3BD49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6"/>
          <p:cNvGrpSpPr/>
          <p:nvPr/>
        </p:nvGrpSpPr>
        <p:grpSpPr>
          <a:xfrm>
            <a:off x="8910720" y="114480"/>
            <a:ext cx="5445000" cy="4005000"/>
            <a:chOff x="8910720" y="114480"/>
            <a:chExt cx="5445000" cy="400500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8910720" y="114480"/>
              <a:ext cx="54450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600" spc="-1" strike="noStrike">
                  <a:solidFill>
                    <a:srgbClr val="000000"/>
                  </a:solidFill>
                  <a:latin typeface="ＭＳ Ｐゴシック"/>
                </a:rPr>
                <a:t>テンプレート：はがき（横向き）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9336600" y="579960"/>
              <a:ext cx="4593240" cy="1060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3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23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23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3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2300" spc="-1" strike="noStrike">
                  <a:solidFill>
                    <a:srgbClr val="000000"/>
                  </a:solidFill>
                  <a:latin typeface="ＭＳ Ｐゴシック"/>
                </a:rPr>
                <a:t>235mm</a:t>
              </a:r>
              <a:r>
                <a:rPr b="0" lang="ja-JP" sz="23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23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23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3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2300" spc="-1" strike="noStrike">
                  <a:solidFill>
                    <a:srgbClr val="000000"/>
                  </a:solidFill>
                  <a:latin typeface="ＭＳ Ｐゴシック"/>
                </a:rPr>
                <a:t>120mm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9247680" y="1699560"/>
              <a:ext cx="47707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6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9246600" y="2727360"/>
              <a:ext cx="4772880" cy="13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7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7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7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7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7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10-08T11:25:39Z</dcterms:modified>
  <cp:revision>6</cp:revision>
  <dc:subject/>
  <dc:title>スライド 1</dc:title>
</cp:coreProperties>
</file>