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9975" cy="21388388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9000" y="365040"/>
            <a:ext cx="25844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B02F-AAFB-46BF-9755-B1E7C43B9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C3C3-098F-4C6E-B92D-72E309AF38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79360" y="365040"/>
            <a:ext cx="258444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B19-3B52-4E83-AEF6-6FB151F4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06240" y="860400"/>
            <a:ext cx="27266760" cy="3564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06240" y="4995360"/>
            <a:ext cx="27266760" cy="673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06240" y="12367080"/>
            <a:ext cx="27266760" cy="673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436-D430-439D-98C3-B7002A52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06240" y="860400"/>
            <a:ext cx="27266760" cy="3564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06240" y="4995360"/>
            <a:ext cx="13305960" cy="673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77840" y="4995360"/>
            <a:ext cx="13305960" cy="673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06240" y="12367080"/>
            <a:ext cx="13305960" cy="673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477840" y="12367080"/>
            <a:ext cx="13305960" cy="673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D63-F4BA-4F73-984E-669E6740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06240" y="860400"/>
            <a:ext cx="27266760" cy="3564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06240" y="4995360"/>
            <a:ext cx="8779680" cy="673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25120" y="4995360"/>
            <a:ext cx="8779680" cy="673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944360" y="4995360"/>
            <a:ext cx="8779680" cy="673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06240" y="12367080"/>
            <a:ext cx="8779680" cy="673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725120" y="12367080"/>
            <a:ext cx="8779680" cy="673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944360" y="12367080"/>
            <a:ext cx="8779680" cy="673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035-6552-4F20-A344-63AB5DA5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06240" y="860400"/>
            <a:ext cx="27266760" cy="3564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06240" y="4995360"/>
            <a:ext cx="27266760" cy="141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5F0-8204-42F8-81CA-FEB4C254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06240" y="860400"/>
            <a:ext cx="27266760" cy="3564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06240" y="4995360"/>
            <a:ext cx="27266760" cy="141130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760-4297-42C6-B7C3-8CBD14F7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06240" y="860400"/>
            <a:ext cx="27266760" cy="3564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06240" y="4995360"/>
            <a:ext cx="13305960" cy="141130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77840" y="4995360"/>
            <a:ext cx="13305960" cy="141130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074-9AC9-47F1-A6B6-C7E1519E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06240" y="860400"/>
            <a:ext cx="27266760" cy="3564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D065-6360-4448-9D94-FE87C138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06240" y="860400"/>
            <a:ext cx="27266760" cy="165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7F7-6EB8-4513-B0B3-8F95368A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06240" y="860400"/>
            <a:ext cx="27266760" cy="3564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06240" y="4995360"/>
            <a:ext cx="13305960" cy="673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77840" y="4995360"/>
            <a:ext cx="13305960" cy="141130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06240" y="12367080"/>
            <a:ext cx="13305960" cy="673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A43-3CA9-425B-A1AC-95B8A133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06240" y="860400"/>
            <a:ext cx="27266760" cy="3564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06240" y="4995360"/>
            <a:ext cx="13305960" cy="141130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477840" y="4995360"/>
            <a:ext cx="13305960" cy="673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77840" y="12367080"/>
            <a:ext cx="13305960" cy="673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12E-7454-41D9-9305-24AB7BC9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240" y="860400"/>
            <a:ext cx="27266760" cy="3564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06240" y="4995360"/>
            <a:ext cx="13305960" cy="673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477840" y="4995360"/>
            <a:ext cx="13305960" cy="673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06240" y="12367080"/>
            <a:ext cx="27266760" cy="673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2949480"/>
                <a:tab algn="l" pos="5899320"/>
                <a:tab algn="l" pos="88488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6ED-1ED6-47F2-A6C5-B64AC61D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06240" y="860400"/>
            <a:ext cx="27266760" cy="3564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06240" y="4995360"/>
            <a:ext cx="27266760" cy="141130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marL="1106640" indent="-11066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2949480"/>
                <a:tab algn="l" pos="5899320"/>
                <a:tab algn="l" pos="88488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2403360" indent="-92052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2949480"/>
                <a:tab algn="l" pos="5899320"/>
                <a:tab algn="l" pos="88488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3681360" indent="-7318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2949480"/>
                <a:tab algn="l" pos="5899320"/>
                <a:tab algn="l" pos="88488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5164200" indent="-7318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2949480"/>
                <a:tab algn="l" pos="5899320"/>
                <a:tab algn="l" pos="88488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6647040" indent="-7477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2949480"/>
                <a:tab algn="l" pos="5899320"/>
                <a:tab algn="l" pos="88488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6647040" indent="-7477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2949480"/>
                <a:tab algn="l" pos="5899320"/>
                <a:tab algn="l" pos="88488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6647040" indent="-7477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2949480"/>
                <a:tab algn="l" pos="5899320"/>
                <a:tab algn="l" pos="88488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06600" y="19480320"/>
            <a:ext cx="7066080" cy="14824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3880" y="19480320"/>
            <a:ext cx="9591480" cy="14824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707280" y="19480320"/>
            <a:ext cx="7065720" cy="14824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Autofit/>
          </a:bodyPr>
          <a:lstStyle>
            <a:lvl1pPr indent="0" algn="r">
              <a:buNone/>
              <a:tabLst>
                <a:tab algn="l" pos="0"/>
                <a:tab algn="l" pos="2949480"/>
                <a:tab algn="l" pos="5899320"/>
                <a:tab algn="l" pos="8848800"/>
              </a:tabLst>
              <a:defRPr b="0" lang="en-US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949480"/>
                <a:tab algn="l" pos="5899320"/>
                <a:tab algn="l" pos="8848800"/>
              </a:tabLst>
            </a:pPr>
            <a:fld id="{C120C592-4E40-4306-A3BC-57C5B4CFD669}" type="slidenum">
              <a:rPr b="0" lang="en-US" sz="5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30749760" y="928800"/>
            <a:ext cx="12082680" cy="14101560"/>
            <a:chOff x="30749760" y="928800"/>
            <a:chExt cx="12082680" cy="1410156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30749760" y="928800"/>
              <a:ext cx="1208268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A1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31694760" y="2622240"/>
              <a:ext cx="10192320" cy="236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841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594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31497840" y="5440320"/>
              <a:ext cx="10586520" cy="36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31495320" y="9949680"/>
              <a:ext cx="10591560" cy="50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2:29:56Z</dcterms:modified>
  <cp:revision>8</cp:revision>
  <dc:subject/>
  <dc:title>スライド 1</dc:title>
</cp:coreProperties>
</file>