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3206988" cy="43206988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58440" y="365040"/>
            <a:ext cx="182556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4E8F-2F43-4240-BF5F-E304BCCF3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230A-8803-498E-B350-1F6BD46EE1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658800" y="365040"/>
            <a:ext cx="1825560" cy="1827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6754-BC40-41C6-AF44-6DC44ED5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743120"/>
            <a:ext cx="3893796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10086840"/>
            <a:ext cx="3893796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33360" y="24977520"/>
            <a:ext cx="3893796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3EF9-1503-481D-9717-97F8E3C5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360" y="1743120"/>
            <a:ext cx="3893796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360" y="10086840"/>
            <a:ext cx="1900152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5280" y="10086840"/>
            <a:ext cx="1900152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3360" y="24977520"/>
            <a:ext cx="1900152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5280" y="24977520"/>
            <a:ext cx="1900152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4533-CDBC-4FEE-BC75-C68D0CCD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360" y="1743120"/>
            <a:ext cx="3893796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33360" y="10086840"/>
            <a:ext cx="1253772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98200" y="10086840"/>
            <a:ext cx="1253772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63400" y="10086840"/>
            <a:ext cx="1253772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33360" y="24977520"/>
            <a:ext cx="1253772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98200" y="24977520"/>
            <a:ext cx="1253772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63400" y="24977520"/>
            <a:ext cx="1253772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2D6-013D-45C8-BE61-DB9D89FC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360" y="1743120"/>
            <a:ext cx="3893796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33360" y="10086840"/>
            <a:ext cx="38937960" cy="28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100-AD66-4C39-9B5E-76F10F69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360" y="1743120"/>
            <a:ext cx="3893796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3360" y="10086840"/>
            <a:ext cx="38937960" cy="2850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0AA-88EC-4D8B-AFD4-7A2E42B3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743120"/>
            <a:ext cx="3893796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33360" y="10086840"/>
            <a:ext cx="19001520" cy="2850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5280" y="10086840"/>
            <a:ext cx="19001520" cy="2850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51D4-8313-4510-8B78-CA84F8BE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360" y="1743120"/>
            <a:ext cx="3893796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3EC-7076-4F27-9D8C-C35899AC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360" y="1743120"/>
            <a:ext cx="3893796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D5B-F4DD-4821-A909-85D9A47E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360" y="1743120"/>
            <a:ext cx="3893796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3360" y="10086840"/>
            <a:ext cx="1900152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5280" y="10086840"/>
            <a:ext cx="19001520" cy="2850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33360" y="24977520"/>
            <a:ext cx="1900152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7CD-B22E-4F2D-9CAD-CE12D83A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743120"/>
            <a:ext cx="3893796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10086840"/>
            <a:ext cx="19001520" cy="2850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5280" y="10086840"/>
            <a:ext cx="1900152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5280" y="24977520"/>
            <a:ext cx="1900152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9564-FEA0-47FF-9924-9B38D757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743120"/>
            <a:ext cx="3893796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10086840"/>
            <a:ext cx="1900152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5280" y="10086840"/>
            <a:ext cx="1900152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33360" y="24977520"/>
            <a:ext cx="38937960" cy="1359828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B6DD-D949-4674-B62D-38CE0ABB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360" y="1743120"/>
            <a:ext cx="38937960" cy="72007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360" y="10086840"/>
            <a:ext cx="38937960" cy="2850840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rmAutofit/>
          </a:bodyPr>
          <a:p>
            <a:pPr marL="677880" indent="-6778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73120" indent="-5601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52520" indent="-45072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165480" indent="-45252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070520" indent="-46044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720" y="39357360"/>
            <a:ext cx="10096560" cy="29779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82320" y="39357360"/>
            <a:ext cx="13640040" cy="29779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75120" y="39357360"/>
            <a:ext cx="10096200" cy="2977920"/>
          </a:xfrm>
          <a:prstGeom prst="rect">
            <a:avLst/>
          </a:prstGeom>
          <a:noFill/>
          <a:ln w="0">
            <a:noFill/>
          </a:ln>
        </p:spPr>
        <p:txBody>
          <a:bodyPr lIns="180720" rIns="180720" tIns="90360" bIns="90360" anchor="t">
            <a:noAutofit/>
          </a:bodyPr>
          <a:lstStyle>
            <a:lvl1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  <a:defRPr b="0" lang="en-US" sz="2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801800"/>
                <a:tab algn="l" pos="3603600"/>
                <a:tab algn="l" pos="5405400"/>
                <a:tab algn="l" pos="7207200"/>
                <a:tab algn="l" pos="9009000"/>
                <a:tab algn="l" pos="10810800"/>
              </a:tabLst>
            </a:pPr>
            <a:fld id="{43079728-F414-4320-B4EA-BEFD30DACE8A}" type="slidenum">
              <a:rPr b="0" lang="en-US" sz="2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グループ化 1"/>
          <p:cNvGrpSpPr/>
          <p:nvPr/>
        </p:nvGrpSpPr>
        <p:grpSpPr>
          <a:xfrm>
            <a:off x="44194320" y="2711520"/>
            <a:ext cx="14616360" cy="21674160"/>
            <a:chOff x="44194320" y="2711520"/>
            <a:chExt cx="14616360" cy="21674160"/>
          </a:xfrm>
        </p:grpSpPr>
        <p:sp>
          <p:nvSpPr>
            <p:cNvPr id="49" name="テキスト ボックス 2"/>
            <p:cNvSpPr/>
            <p:nvPr/>
          </p:nvSpPr>
          <p:spPr>
            <a:xfrm>
              <a:off x="44194320" y="2711520"/>
              <a:ext cx="1461636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000" spc="-1" strike="noStrike">
                  <a:solidFill>
                    <a:srgbClr val="000000"/>
                  </a:solidFill>
                  <a:latin typeface="ＭＳ Ｐゴシック"/>
                </a:rPr>
                <a:t>テンプレート：</a:t>
              </a:r>
              <a:r>
                <a:rPr b="1" lang="en-US" sz="6000" spc="-1" strike="noStrike">
                  <a:solidFill>
                    <a:srgbClr val="000000"/>
                  </a:solidFill>
                  <a:latin typeface="ＭＳ Ｐゴシック"/>
                </a:rPr>
                <a:t>1200x120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3"/>
            <p:cNvSpPr/>
            <p:nvPr/>
          </p:nvSpPr>
          <p:spPr>
            <a:xfrm>
              <a:off x="44194320" y="5096160"/>
              <a:ext cx="14616360" cy="236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ページ設定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5400" spc="-1" strike="noStrike" baseline="40000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幅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1200mm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×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ＭＳ Ｐゴシック"/>
                </a:rPr>
                <a:t>高さ </a:t>
              </a:r>
              <a:r>
                <a:rPr b="0" lang="en-US" sz="5400" spc="-1" strike="noStrike">
                  <a:solidFill>
                    <a:srgbClr val="000000"/>
                  </a:solidFill>
                  <a:latin typeface="ＭＳ Ｐゴシック"/>
                </a:rPr>
                <a:t>1200m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44194320" y="8288640"/>
              <a:ext cx="13893480" cy="85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※</a:t>
              </a:r>
              <a:r>
                <a:rPr b="1" lang="en-US" sz="48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のバージョンによっては数値に若干誤差が生じている場合がありますが、そのまま作成いただいて問題ございません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テキスト ボックス 6"/>
            <p:cNvSpPr/>
            <p:nvPr/>
          </p:nvSpPr>
          <p:spPr>
            <a:xfrm>
              <a:off x="44194320" y="12548520"/>
              <a:ext cx="13899600" cy="11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ff0000"/>
                  </a:solidFill>
                  <a:latin typeface="ＭＳ Ｐゴシック"/>
                </a:rPr>
                <a:t>データ作成の注意事項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仕上がりギリギリまで文字・写真・絵柄が入る場合は、用紙の白が出ないように若干拡大して印刷します。そのため切れては困る文字や絵柄は、仕上がりより</a:t>
              </a:r>
              <a:r>
                <a:rPr b="0" lang="en-US" sz="4800" spc="-1" strike="noStrike">
                  <a:solidFill>
                    <a:srgbClr val="000000"/>
                  </a:solidFill>
                  <a:latin typeface="ＭＳ Ｐゴシック"/>
                </a:rPr>
                <a:t>3mm</a:t>
              </a:r>
              <a:r>
                <a:rPr b="0" lang="ja-JP" sz="4800" spc="-1" strike="noStrike">
                  <a:solidFill>
                    <a:srgbClr val="000000"/>
                  </a:solidFill>
                  <a:latin typeface="ＭＳ Ｐゴシック"/>
                </a:rPr>
                <a:t>内側に配置してください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販促応援.com</dc:creator>
  <dc:description/>
  <dc:language>en-US</dc:language>
  <cp:lastModifiedBy>hanami</cp:lastModifiedBy>
  <dcterms:modified xsi:type="dcterms:W3CDTF">2015-09-25T07:35:52Z</dcterms:modified>
  <cp:revision>17</cp:revision>
  <dc:subject/>
  <dc:title>スライド 1</dc:title>
</cp:coreProperties>
</file>