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103225" cy="185435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199-C013-4F58-9E9F-1FEC8BB4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5762-0EDE-4889-9500-431E020E34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AB9-2CD6-4F05-BF84-776458D8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1180944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10719720"/>
            <a:ext cx="1180944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61B-B725-4A19-83F8-5E63E0EC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9888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1071972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98880" y="1071972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24B-8264-4E8C-B1C5-1C25A63A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0400" y="432900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33160" y="432900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1071972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40400" y="1071972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33160" y="10719720"/>
            <a:ext cx="380232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916-4B8A-407A-835F-73E899AB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4329000"/>
            <a:ext cx="11809440" cy="122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FAB-E637-40B3-9843-8EB9425F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1180944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407-8FAC-468C-8F9C-16BABE3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576288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98880" y="4329000"/>
            <a:ext cx="576288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2B1-367D-4724-87F2-499EB38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29E-C0AA-4C1E-B01A-C7C9968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747720"/>
            <a:ext cx="11809440" cy="14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84C-7AA9-41CE-AA5D-094195E2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98880" y="4329000"/>
            <a:ext cx="576288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1071972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7FD-8F52-44A4-AA4F-A4701B4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576288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9888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98880" y="1071972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428-F2CA-4621-897A-57E6B24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98880" y="4329000"/>
            <a:ext cx="576288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10719720"/>
            <a:ext cx="11809440" cy="5835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111-DA16-429D-9697-1580719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747720"/>
            <a:ext cx="11809440" cy="3090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4329000"/>
            <a:ext cx="11809440" cy="12234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16890840"/>
            <a:ext cx="3062520" cy="12780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83080" y="16890840"/>
            <a:ext cx="4138560" cy="12780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94920" y="16890840"/>
            <a:ext cx="3062160" cy="12780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96D8C82B-E55B-4D9B-8F9D-1AEA48446BAB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3436640" y="682560"/>
            <a:ext cx="12082320" cy="14100120"/>
            <a:chOff x="13436640" y="682560"/>
            <a:chExt cx="1208232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3436640" y="682560"/>
              <a:ext cx="12082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3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4381640" y="2375640"/>
              <a:ext cx="101919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64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15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4184720" y="5193360"/>
              <a:ext cx="1058616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4182200" y="9702720"/>
              <a:ext cx="1059120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03:39Z</dcterms:modified>
  <cp:revision>12</cp:revision>
  <dc:subject/>
  <dc:title>スライド 1</dc:title>
</cp:coreProperties>
</file>