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6211213" cy="185435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160" y="365040"/>
            <a:ext cx="25812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68DF-4290-44D0-8104-553658922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124C-8406-4EBA-B205-3F1A0AFCA7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81160" y="365040"/>
            <a:ext cx="25812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997-60C8-4069-B9BD-836A286B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4329000"/>
            <a:ext cx="2362068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10719720"/>
            <a:ext cx="2362068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2A7-EA18-47BF-96D5-7FC34293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4329000"/>
            <a:ext cx="1152684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398480" y="4329000"/>
            <a:ext cx="1152684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10719720"/>
            <a:ext cx="1152684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398480" y="10719720"/>
            <a:ext cx="1152684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E6F-9B36-4419-B428-DAAB1D77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4329000"/>
            <a:ext cx="760572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281160" y="4329000"/>
            <a:ext cx="760572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267760" y="4329000"/>
            <a:ext cx="760572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10719720"/>
            <a:ext cx="760572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281160" y="10719720"/>
            <a:ext cx="760572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267760" y="10719720"/>
            <a:ext cx="760572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66B-6828-49DA-BE41-14FB04EB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4329000"/>
            <a:ext cx="23620680" cy="122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76"/>
              </a:spcBef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82D-4A8A-4A72-AA46-9FF50706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4329000"/>
            <a:ext cx="23620680" cy="12234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863-5787-459C-842C-AE733219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4329000"/>
            <a:ext cx="11526840" cy="12234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398480" y="4329000"/>
            <a:ext cx="11526840" cy="12234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E43-DAFD-4C6E-98C6-98FCD543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381-87EC-4645-B4B3-F7E7F064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747720"/>
            <a:ext cx="23620680" cy="14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76"/>
              </a:spcBef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D12-3D90-41F7-A747-2943F522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4329000"/>
            <a:ext cx="1152684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398480" y="4329000"/>
            <a:ext cx="11526840" cy="12234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10719720"/>
            <a:ext cx="1152684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895-E3E4-433E-8EC6-9A7A9FAA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4329000"/>
            <a:ext cx="11526840" cy="12234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398480" y="4329000"/>
            <a:ext cx="1152684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398480" y="10719720"/>
            <a:ext cx="1152684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348-95C4-4AC1-B66B-CCBD1D2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4329000"/>
            <a:ext cx="1152684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398480" y="4329000"/>
            <a:ext cx="1152684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10719720"/>
            <a:ext cx="23620680" cy="5835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D42-479B-4819-A3DB-294F332B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747720"/>
            <a:ext cx="23620680" cy="3090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ctr">
            <a:noAutofit/>
          </a:bodyPr>
          <a:p>
            <a:pPr indent="0" algn="ct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4329000"/>
            <a:ext cx="23620680" cy="1223496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rmAutofit/>
          </a:bodyPr>
          <a:p>
            <a:pPr marL="957240" indent="-95724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1" marL="2082960" indent="-792360">
              <a:spcBef>
                <a:spcPts val="2276"/>
              </a:spcBef>
              <a:buClr>
                <a:srgbClr val="000000"/>
              </a:buClr>
              <a:buFont typeface="Arial"/>
              <a:buChar char="–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2" marL="3184560" indent="-6364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3" marL="4475160" indent="-639720">
              <a:spcBef>
                <a:spcPts val="2276"/>
              </a:spcBef>
              <a:buClr>
                <a:srgbClr val="000000"/>
              </a:buClr>
              <a:buFont typeface="Arial"/>
              <a:buChar char="–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4" marL="5754600" indent="-65088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5" marL="5754600" indent="-65088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6" marL="5754600" indent="-65088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5095800"/>
                <a:tab algn="l" pos="7643880"/>
                <a:tab algn="l" pos="101916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16890840"/>
            <a:ext cx="6126120" cy="12780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967600" y="16890840"/>
            <a:ext cx="8275320" cy="12780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789480" y="16890840"/>
            <a:ext cx="6126480" cy="1278000"/>
          </a:xfrm>
          <a:prstGeom prst="rect">
            <a:avLst/>
          </a:prstGeom>
          <a:noFill/>
          <a:ln w="0">
            <a:noFill/>
          </a:ln>
        </p:spPr>
        <p:txBody>
          <a:bodyPr lIns="255600" rIns="255600" tIns="127800" bIns="127800" anchor="t">
            <a:noAutofit/>
          </a:bodyPr>
          <a:lstStyle>
            <a:lvl1pPr indent="0" algn="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  <a:defRPr b="0" lang="en-US" sz="4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548080"/>
                <a:tab algn="l" pos="5095800"/>
                <a:tab algn="l" pos="7643880"/>
                <a:tab algn="l" pos="10191600"/>
              </a:tabLst>
            </a:pPr>
            <a:fld id="{BB5BC0E9-E388-426A-BFA3-7E37334EEAD9}" type="slidenum">
              <a:rPr b="0" lang="en-US" sz="4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7741600" y="482760"/>
            <a:ext cx="17078400" cy="16601760"/>
            <a:chOff x="27741600" y="482760"/>
            <a:chExt cx="17078400" cy="166017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7741600" y="482760"/>
              <a:ext cx="17078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B2/B0</a:t>
              </a:r>
              <a:r>
                <a:rPr b="1" lang="en-US" sz="6000" spc="-1" strike="noStrike" baseline="30000">
                  <a:solidFill>
                    <a:srgbClr val="000000"/>
                  </a:solidFill>
                  <a:latin typeface="ＭＳ Ｐゴシック"/>
                </a:rPr>
                <a:t>※2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9077560" y="2078640"/>
              <a:ext cx="1440648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728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515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8802160" y="5617080"/>
              <a:ext cx="14963760" cy="72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サイズ制限上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B0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原寸は設定できないた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50%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縮小のサイズに設定しています。印刷時に拡大します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8795320" y="12296160"/>
              <a:ext cx="14970600" cy="47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3:33:46Z</dcterms:modified>
  <cp:revision>15</cp:revision>
  <dc:subject/>
  <dc:title>スライド 1</dc:title>
</cp:coreProperties>
</file>