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604288" cy="324040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63720" y="365040"/>
            <a:ext cx="121608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69B9-8B51-4B6A-8A54-A8D2E93C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9AA6-E0CB-4562-BC38-329E8082B7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63720" y="365040"/>
            <a:ext cx="121608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227-E5EE-44C3-92D3-AB39B587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480" y="7567560"/>
            <a:ext cx="194659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480" y="18734400"/>
            <a:ext cx="194659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6A4-18C7-4DF3-801B-E31E2AA7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480" y="756756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043000" y="756756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480" y="1873440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043000" y="1873440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8E6-683D-442D-9928-BDB83EFB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480" y="7567560"/>
            <a:ext cx="626796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50360" y="7567560"/>
            <a:ext cx="626796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31880" y="7567560"/>
            <a:ext cx="626796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480" y="18734400"/>
            <a:ext cx="626796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650360" y="18734400"/>
            <a:ext cx="626796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31880" y="18734400"/>
            <a:ext cx="626796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626-EAAE-4908-8B8F-BE72A5D0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480" y="7567560"/>
            <a:ext cx="19465920" cy="21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9A7-E119-4253-B0CB-AC5CD53F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480" y="7567560"/>
            <a:ext cx="1946592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D6E-3738-4998-B366-944B71D6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480" y="7567560"/>
            <a:ext cx="949932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043000" y="7567560"/>
            <a:ext cx="949932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8A7-A3A0-4C15-BEC4-6B38CD77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A3B-12A2-4D98-AF13-BF82BB4D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1304640"/>
            <a:ext cx="19465920" cy="25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ED2-8A6C-45BD-A598-8EAB8D64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480" y="756756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3000" y="7567560"/>
            <a:ext cx="949932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480" y="1873440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E41-5863-4ADC-B9E5-AB31DF5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480" y="7567560"/>
            <a:ext cx="949932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3000" y="756756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043000" y="1873440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FEF-E52A-45E6-BB6E-B7F8CA6C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480" y="756756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043000" y="7567560"/>
            <a:ext cx="94993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480" y="18734400"/>
            <a:ext cx="194659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5F3-DF85-4F75-96E8-77911D2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480" y="1304640"/>
            <a:ext cx="194659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8480" y="7567560"/>
            <a:ext cx="1946592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8480" y="29517480"/>
            <a:ext cx="5046480" cy="2233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89360" y="29517480"/>
            <a:ext cx="6823080" cy="2233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487200" y="29517480"/>
            <a:ext cx="5046840" cy="2233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755BCA57-8860-4390-946C-5D12D1BA6CE4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1953520" y="2050920"/>
            <a:ext cx="11206080" cy="18902520"/>
            <a:chOff x="21953520" y="2050920"/>
            <a:chExt cx="11206080" cy="189025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2164480" y="2050920"/>
              <a:ext cx="10784160" cy="18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600x900/1200x1800</a:t>
              </a:r>
              <a:r>
                <a:rPr b="1" lang="en-US" sz="6000" spc="-1" strike="noStrike" baseline="30000">
                  <a:solidFill>
                    <a:srgbClr val="000000"/>
                  </a:solidFill>
                  <a:latin typeface="ＭＳ Ｐゴシック"/>
                </a:rPr>
                <a:t>※2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2164480" y="4393080"/>
              <a:ext cx="1078416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6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9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1955680" y="7497000"/>
              <a:ext cx="11201400" cy="73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サイズ制限上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1200x1800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原寸は設定できないた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50%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縮小のサイズに設定しています。印刷時に拡大します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1953520" y="15640560"/>
              <a:ext cx="11206080" cy="53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7:56:00Z</dcterms:modified>
  <cp:revision>18</cp:revision>
  <dc:subject/>
  <dc:title>スライド 1</dc:title>
</cp:coreProperties>
</file>