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6203613" cy="16203613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57360" y="365040"/>
            <a:ext cx="182880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A267-16FA-4A48-BBA3-4904FB200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3216-AE60-4603-8167-4615207A02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657360" y="365040"/>
            <a:ext cx="182880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9B22-03DB-48A1-99DA-496D974DE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1720" y="652320"/>
            <a:ext cx="14598720" cy="27036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1720" y="3784680"/>
            <a:ext cx="14598720" cy="50983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1720" y="9367560"/>
            <a:ext cx="14598720" cy="50983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DF31-8D50-4EBC-9AE7-754EEF31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1720" y="652320"/>
            <a:ext cx="14598720" cy="27036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1720" y="3784680"/>
            <a:ext cx="7124040" cy="50983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82520" y="3784680"/>
            <a:ext cx="7124040" cy="50983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1720" y="9367560"/>
            <a:ext cx="7124040" cy="50983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282520" y="9367560"/>
            <a:ext cx="7124040" cy="50983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127D-4CAA-4F6B-A887-44FA55B90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1720" y="652320"/>
            <a:ext cx="14598720" cy="27036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1720" y="3784680"/>
            <a:ext cx="4700520" cy="50983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37680" y="3784680"/>
            <a:ext cx="4700520" cy="50983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73640" y="3784680"/>
            <a:ext cx="4700520" cy="50983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1720" y="9367560"/>
            <a:ext cx="4700520" cy="50983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37680" y="9367560"/>
            <a:ext cx="4700520" cy="50983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673640" y="9367560"/>
            <a:ext cx="4700520" cy="50983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C447-6468-418D-ADA4-B833A8983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1720" y="652320"/>
            <a:ext cx="14598720" cy="27036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1720" y="3784680"/>
            <a:ext cx="14598720" cy="106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B34E-33B1-43E3-A1BD-D4BE4853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1720" y="652320"/>
            <a:ext cx="14598720" cy="27036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1720" y="3784680"/>
            <a:ext cx="14598720" cy="10688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0D54-E53B-4422-B639-9DB61D66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1720" y="652320"/>
            <a:ext cx="14598720" cy="27036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1720" y="3784680"/>
            <a:ext cx="7124040" cy="10688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282520" y="3784680"/>
            <a:ext cx="7124040" cy="10688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36EE-87CB-415C-BAC7-AE723B8F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1720" y="652320"/>
            <a:ext cx="14598720" cy="27036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9996-0057-4DAF-A81D-037CF9B2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1720" y="652320"/>
            <a:ext cx="14598720" cy="1253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2CD0-F68D-4CBF-B616-7F9A8DAB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1720" y="652320"/>
            <a:ext cx="14598720" cy="27036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1720" y="3784680"/>
            <a:ext cx="7124040" cy="50983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282520" y="3784680"/>
            <a:ext cx="7124040" cy="10688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1720" y="9367560"/>
            <a:ext cx="7124040" cy="50983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F077-941C-4267-AAA6-2041A8A4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1720" y="652320"/>
            <a:ext cx="14598720" cy="27036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1720" y="3784680"/>
            <a:ext cx="7124040" cy="10688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282520" y="3784680"/>
            <a:ext cx="7124040" cy="50983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282520" y="9367560"/>
            <a:ext cx="7124040" cy="50983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F377-331F-4775-A89C-8B28685A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1720" y="652320"/>
            <a:ext cx="14598720" cy="27036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1720" y="3784680"/>
            <a:ext cx="7124040" cy="50983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282520" y="3784680"/>
            <a:ext cx="7124040" cy="50983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1720" y="9367560"/>
            <a:ext cx="14598720" cy="50983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F31A-542F-4A0F-8A84-5678D53A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720" y="652320"/>
            <a:ext cx="14598720" cy="27036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720" y="3784680"/>
            <a:ext cx="14598720" cy="10688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marL="677880" indent="-6778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1" marL="1473120" indent="-56016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2" marL="2252520" indent="-45072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3" marL="3165480" indent="-45252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4" marL="4070520" indent="-4604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5" marL="4070520" indent="-4604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6" marL="4070520" indent="-4604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1360" y="14758560"/>
            <a:ext cx="3784680" cy="1117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41480" y="14758560"/>
            <a:ext cx="5118120" cy="1117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15400" y="14758560"/>
            <a:ext cx="3784680" cy="1117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lstStyle>
            <a:lvl1pPr indent="0" algn="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  <a:defRPr b="0" lang="en-US" sz="2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fld id="{6FC2A2A6-D92F-4393-877C-EBCE111FF12E}" type="slidenum">
              <a:rPr b="0" lang="en-US" sz="2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18054720" y="890640"/>
            <a:ext cx="11206080" cy="13980960"/>
            <a:chOff x="18054720" y="890640"/>
            <a:chExt cx="11206080" cy="1398096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18265680" y="890640"/>
              <a:ext cx="1078416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r>
                <a:rPr b="1" lang="en-US" sz="6000" spc="-1" strike="noStrike">
                  <a:solidFill>
                    <a:srgbClr val="000000"/>
                  </a:solidFill>
                  <a:latin typeface="ＭＳ Ｐゴシック"/>
                </a:rPr>
                <a:t>450x450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18265680" y="2370240"/>
              <a:ext cx="10784160" cy="2366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360000" bIns="36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450mm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450mm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18056880" y="6400800"/>
              <a:ext cx="11201400" cy="31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誤差が生じている場合がありますが、そのまま作成いただいて問題ございません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18054720" y="10432800"/>
              <a:ext cx="11206080" cy="443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7:41:41Z</dcterms:modified>
  <cp:revision>15</cp:revision>
  <dc:subject/>
  <dc:title>スライド 1</dc:title>
</cp:coreProperties>
</file>