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1604288" cy="1079976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-255960" y="365040"/>
            <a:ext cx="365436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E719-74A8-435B-87F8-168AD3052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FDC8-58F8-416E-BB1D-1D400124BC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-255600" y="365040"/>
            <a:ext cx="365436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09D-5FEB-4EBF-AD68-C09CA925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8480" y="434520"/>
            <a:ext cx="1946592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480" y="2522160"/>
            <a:ext cx="1946592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480" y="6244560"/>
            <a:ext cx="1946592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EB4-CB94-4468-B706-0A05DB60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8480" y="434520"/>
            <a:ext cx="1946592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480" y="2522160"/>
            <a:ext cx="949932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043000" y="2522160"/>
            <a:ext cx="949932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480" y="6244560"/>
            <a:ext cx="949932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043000" y="6244560"/>
            <a:ext cx="949932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8F3-30FE-4CD7-9C1D-20C6F727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8480" y="434520"/>
            <a:ext cx="1946592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480" y="2522160"/>
            <a:ext cx="626796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650360" y="2522160"/>
            <a:ext cx="626796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31880" y="2522160"/>
            <a:ext cx="626796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480" y="6244560"/>
            <a:ext cx="626796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650360" y="6244560"/>
            <a:ext cx="626796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31880" y="6244560"/>
            <a:ext cx="626796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84C-F8EF-4833-AB29-F6433E91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8480" y="434520"/>
            <a:ext cx="1946592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480" y="2522160"/>
            <a:ext cx="19465920" cy="71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B6B4-2DFF-4E36-AB2C-6A4269B2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8480" y="434520"/>
            <a:ext cx="1946592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480" y="2522160"/>
            <a:ext cx="19465920" cy="7126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F98-6EEF-429A-8295-BCFE9064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8480" y="434520"/>
            <a:ext cx="1946592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480" y="2522160"/>
            <a:ext cx="9499320" cy="7126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043000" y="2522160"/>
            <a:ext cx="9499320" cy="7126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41D-32D5-40AC-AF4A-DE116EA8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8480" y="434520"/>
            <a:ext cx="1946592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DFE-A7A6-421F-9DB1-FD7A48C6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8480" y="434520"/>
            <a:ext cx="1946592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13A-5801-41BA-90D9-176CC82F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8480" y="434520"/>
            <a:ext cx="1946592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480" y="2522160"/>
            <a:ext cx="949932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043000" y="2522160"/>
            <a:ext cx="9499320" cy="7126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480" y="6244560"/>
            <a:ext cx="949932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91F-BF48-4405-B5B1-9BD2AF5B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8480" y="434520"/>
            <a:ext cx="1946592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480" y="2522160"/>
            <a:ext cx="9499320" cy="7126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043000" y="2522160"/>
            <a:ext cx="949932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043000" y="6244560"/>
            <a:ext cx="949932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5F3-87AA-4BAE-B510-37A9BA41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8480" y="434520"/>
            <a:ext cx="1946592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480" y="2522160"/>
            <a:ext cx="949932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043000" y="2522160"/>
            <a:ext cx="949932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480" y="6244560"/>
            <a:ext cx="1946592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560-070A-47A0-BC81-20B9DBFA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8480" y="434520"/>
            <a:ext cx="1946592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8480" y="2522160"/>
            <a:ext cx="19465920" cy="7126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 fontScale="86000"/>
          </a:bodyPr>
          <a:p>
            <a:pPr marL="582840" indent="-58284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266840" indent="-48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1937160" indent="-38736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2721960" indent="-3891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3500640" indent="-3956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3500640" indent="-3956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3500640" indent="-3956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8480" y="9838800"/>
            <a:ext cx="5046480" cy="7448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89360" y="9838800"/>
            <a:ext cx="6823080" cy="7448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487200" y="9838800"/>
            <a:ext cx="5046840" cy="7448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lstStyle>
            <a:lvl1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165CA936-B812-4ADE-A367-50C637A1719F}" type="slidenum">
              <a:rPr b="0" lang="en-US" sz="2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22842360" y="593640"/>
            <a:ext cx="19918440" cy="9320400"/>
            <a:chOff x="22842360" y="593640"/>
            <a:chExt cx="19918440" cy="932040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22842360" y="593640"/>
              <a:ext cx="19918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600x300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24400440" y="1579680"/>
              <a:ext cx="16801920" cy="236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600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300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24075360" y="4267080"/>
              <a:ext cx="17452080" cy="21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24071400" y="6954840"/>
              <a:ext cx="17460000" cy="29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6:20:11Z</dcterms:modified>
  <cp:revision>14</cp:revision>
  <dc:subject/>
  <dc:title>スライド 1</dc:title>
</cp:coreProperties>
</file>