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324040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57360" y="365040"/>
            <a:ext cx="18288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71BC-D2EC-4A9E-BEA8-4EDA9CCF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B277-C992-4E6C-A920-634850FA08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657360" y="365040"/>
            <a:ext cx="18288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12C-4D45-4C09-8165-4446272E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3080" y="7569000"/>
            <a:ext cx="29197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3080" y="18734760"/>
            <a:ext cx="29197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105-73CB-436A-8238-848049F6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080" y="756900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960" y="756900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080" y="1873476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960" y="1873476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9BD-F55D-4ACF-B1A4-847E202B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3080" y="7569000"/>
            <a:ext cx="940104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4640" y="7569000"/>
            <a:ext cx="940104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6200" y="7569000"/>
            <a:ext cx="940104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3080" y="18734760"/>
            <a:ext cx="940104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4640" y="18734760"/>
            <a:ext cx="940104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6200" y="18734760"/>
            <a:ext cx="940104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96C-41AE-4A47-98E6-81D48AF6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3080" y="7569000"/>
            <a:ext cx="29197080" cy="213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A9C-4789-4FF3-AFB0-105204F3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3080" y="7569000"/>
            <a:ext cx="29197080" cy="213771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56E-5494-460C-B7EA-C9EE94AA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3080" y="7569000"/>
            <a:ext cx="14248080" cy="213771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960" y="7569000"/>
            <a:ext cx="14248080" cy="213771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0A1-8B9C-4608-9182-175B6784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F59-15AE-4D85-9047-ADD02689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3080" y="1304640"/>
            <a:ext cx="29197080" cy="25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763-A05F-4D01-B631-163DD392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080" y="756900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960" y="7569000"/>
            <a:ext cx="14248080" cy="213771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3080" y="1873476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476-78D5-4E65-B0C0-08225BEA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3080" y="7569000"/>
            <a:ext cx="14248080" cy="213771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960" y="756900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960" y="1873476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38F-8E10-475D-8582-36B2506C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3080" y="756900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960" y="7569000"/>
            <a:ext cx="14248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3080" y="18734760"/>
            <a:ext cx="29197080" cy="101966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4D2-7E9E-4153-B64F-E302F89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3080" y="1304640"/>
            <a:ext cx="29197080" cy="54068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3080" y="7569000"/>
            <a:ext cx="29197080" cy="213771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marL="903240" indent="-903240"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1" marL="1963800" indent="-746280"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2" marL="3002040" indent="-600120"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3" marL="4219560" indent="-601560"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4" marL="5425920" indent="-612720"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5" marL="5425920" indent="-612720"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6" marL="5425920" indent="-612720"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3080" y="29517480"/>
            <a:ext cx="7569000" cy="22352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84040" y="29517480"/>
            <a:ext cx="10236240" cy="22352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31160" y="29517480"/>
            <a:ext cx="7569000" cy="22352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Autofit/>
          </a:bodyPr>
          <a:lstStyle>
            <a:lvl1pPr indent="0" algn="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  <a:defRPr b="0" lang="en-US" sz="3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fld id="{B137FF4F-1720-4792-A9A9-D351F90B62F8}" type="slidenum">
              <a:rPr b="0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34458120" y="480960"/>
            <a:ext cx="15267240" cy="21131280"/>
            <a:chOff x="34458120" y="480960"/>
            <a:chExt cx="15267240" cy="211312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34458120" y="480960"/>
              <a:ext cx="152672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8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8000" spc="-1" strike="noStrike">
                  <a:solidFill>
                    <a:srgbClr val="000000"/>
                  </a:solidFill>
                  <a:latin typeface="ＭＳ Ｐゴシック"/>
                </a:rPr>
                <a:t>900x90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34458120" y="3734640"/>
              <a:ext cx="15267240" cy="291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72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72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7200" spc="-1" strike="noStrike">
                  <a:solidFill>
                    <a:srgbClr val="000000"/>
                  </a:solidFill>
                  <a:latin typeface="ＭＳ Ｐゴシック"/>
                </a:rPr>
                <a:t>900mm</a:t>
              </a: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7200" spc="-1" strike="noStrike">
                  <a:solidFill>
                    <a:srgbClr val="000000"/>
                  </a:solidFill>
                  <a:latin typeface="ＭＳ Ｐゴシック"/>
                </a:rPr>
                <a:t>900m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34458120" y="8473320"/>
              <a:ext cx="15267240" cy="70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64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34458120" y="13544280"/>
              <a:ext cx="15267240" cy="80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4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64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7:48:31Z</dcterms:modified>
  <cp:revision>17</cp:revision>
  <dc:subject/>
  <dc:title>スライド 1</dc:title>
</cp:coreProperties>
</file>