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7084000" cy="262112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9000" y="365040"/>
            <a:ext cx="258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6F4-6FED-4D20-B447-2CB1DAA0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A32-1142-40B5-B85E-D79585916B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9360" y="365040"/>
            <a:ext cx="25844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BCF-8F55-4B9A-92CE-CD2F0403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3341700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33120" y="15153480"/>
            <a:ext cx="3341700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737-7AB1-4777-B5BA-75903B4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956160" y="611964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33120" y="1515348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956160" y="1515348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7A0-4F59-416C-97E1-CEBD249B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1076004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131720" y="6119640"/>
            <a:ext cx="1076004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429960" y="6119640"/>
            <a:ext cx="1076004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33120" y="15153480"/>
            <a:ext cx="1076004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131720" y="15153480"/>
            <a:ext cx="1076004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429960" y="15153480"/>
            <a:ext cx="1076004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C6B-BEB6-4646-8050-B586D544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33120" y="6119640"/>
            <a:ext cx="33417000" cy="172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26"/>
              </a:spcBef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C99-8E37-46D1-B632-9A8CA51E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33417000" cy="1729584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700-6987-4384-B4F6-9430CB3C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16307280" cy="1729584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956160" y="6119640"/>
            <a:ext cx="16307280" cy="1729584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4B3-0B5C-422E-91E4-8B1F46A0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DD8-C944-4748-B403-106888FF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3120" y="1056960"/>
            <a:ext cx="33417000" cy="202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26"/>
              </a:spcBef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73F-67F4-4235-BAFA-905A0BB1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956160" y="6119640"/>
            <a:ext cx="16307280" cy="1729584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33120" y="1515348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231-4C6F-48CD-8FD3-7BC5AD13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16307280" cy="1729584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956160" y="611964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956160" y="1515348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BFB-1C73-4BF4-B9FD-74996A07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3120" y="611964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956160" y="6119640"/>
            <a:ext cx="1630728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33120" y="15153480"/>
            <a:ext cx="33417000" cy="824976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indent="0">
              <a:spcBef>
                <a:spcPts val="3226"/>
              </a:spcBef>
              <a:buNone/>
              <a:tabLst>
                <a:tab algn="l" pos="3602160"/>
                <a:tab algn="l" pos="7203960"/>
                <a:tab algn="l" pos="10806120"/>
              </a:tabLst>
            </a:pP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F0C-038C-4B33-B9AD-6968583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1056960"/>
            <a:ext cx="33417000" cy="436860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ctr">
            <a:noAutofit/>
          </a:bodyPr>
          <a:p>
            <a:pPr indent="0" algn="ct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3120" y="6119640"/>
            <a:ext cx="33417000" cy="1729584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rmAutofit/>
          </a:bodyPr>
          <a:p>
            <a:pPr marL="1353960" indent="-135396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1" marL="2944800" indent="-1119240">
              <a:spcBef>
                <a:spcPts val="3226"/>
              </a:spcBef>
              <a:buClr>
                <a:srgbClr val="000000"/>
              </a:buClr>
              <a:buFont typeface="Arial"/>
              <a:buChar char="–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2" marL="4503600" indent="-90000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3" marL="6329520" indent="-903600">
              <a:spcBef>
                <a:spcPts val="3226"/>
              </a:spcBef>
              <a:buClr>
                <a:srgbClr val="000000"/>
              </a:buClr>
              <a:buFont typeface="Arial"/>
              <a:buChar char="–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4" marL="8139240" indent="-919440">
              <a:spcBef>
                <a:spcPts val="3226"/>
              </a:spcBef>
              <a:buClr>
                <a:srgbClr val="000000"/>
              </a:buClr>
              <a:buFont typeface="Arial"/>
              <a:buChar char="»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5" marL="8139240" indent="-919440">
              <a:spcBef>
                <a:spcPts val="3226"/>
              </a:spcBef>
              <a:buClr>
                <a:srgbClr val="000000"/>
              </a:buClr>
              <a:buFont typeface="Arial"/>
              <a:buChar char="»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lvl="6" marL="8139240" indent="-919440">
              <a:spcBef>
                <a:spcPts val="3226"/>
              </a:spcBef>
              <a:buClr>
                <a:srgbClr val="000000"/>
              </a:buClr>
              <a:buFont typeface="Arial"/>
              <a:buChar char="»"/>
              <a:tabLst>
                <a:tab algn="l" pos="3602160"/>
                <a:tab algn="l" pos="7203960"/>
                <a:tab algn="l" pos="1080612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33480" y="23877720"/>
            <a:ext cx="8664480" cy="180648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685320" y="23877720"/>
            <a:ext cx="11712600" cy="180648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586000" y="23877720"/>
            <a:ext cx="8664480" cy="1806480"/>
          </a:xfrm>
          <a:prstGeom prst="rect">
            <a:avLst/>
          </a:prstGeom>
          <a:noFill/>
          <a:ln w="0">
            <a:noFill/>
          </a:ln>
        </p:spPr>
        <p:txBody>
          <a:bodyPr lIns="361440" rIns="361440" tIns="180720" bIns="180720" anchor="t">
            <a:noAutofit/>
          </a:bodyPr>
          <a:lstStyle>
            <a:lvl1pPr indent="0" algn="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02160"/>
                <a:tab algn="l" pos="7203960"/>
                <a:tab algn="l" pos="10806120"/>
              </a:tabLst>
            </a:pPr>
            <a:fld id="{70EA076A-2E63-4332-8962-7FBFE6A2A53E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6"/>
          <p:cNvGrpSpPr/>
          <p:nvPr/>
        </p:nvGrpSpPr>
        <p:grpSpPr>
          <a:xfrm>
            <a:off x="37819080" y="452520"/>
            <a:ext cx="12082320" cy="14100120"/>
            <a:chOff x="37819080" y="452520"/>
            <a:chExt cx="12082320" cy="14100120"/>
          </a:xfrm>
        </p:grpSpPr>
        <p:sp>
          <p:nvSpPr>
            <p:cNvPr id="49" name="テキスト ボックス 7"/>
            <p:cNvSpPr/>
            <p:nvPr/>
          </p:nvSpPr>
          <p:spPr>
            <a:xfrm>
              <a:off x="37819080" y="452520"/>
              <a:ext cx="120823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B1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8"/>
            <p:cNvSpPr/>
            <p:nvPr/>
          </p:nvSpPr>
          <p:spPr>
            <a:xfrm>
              <a:off x="38764080" y="2145600"/>
              <a:ext cx="101919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03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728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9"/>
            <p:cNvSpPr/>
            <p:nvPr/>
          </p:nvSpPr>
          <p:spPr>
            <a:xfrm>
              <a:off x="38567160" y="4963320"/>
              <a:ext cx="1058616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8564640" y="9472680"/>
              <a:ext cx="1059120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3:05:29Z</dcterms:modified>
  <cp:revision>18</cp:revision>
  <dc:subject/>
  <dc:title>スライド 1</dc:title>
</cp:coreProperties>
</file>