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2806938" cy="30279975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9000" y="365040"/>
            <a:ext cx="25844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r>
              <a:rPr b="0" lang="en-US" sz="19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7D1C-4B6C-4863-A218-61AD6E919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D3B7-C331-4728-BB73-38569CBB5B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79360" y="365040"/>
            <a:ext cx="258444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BA4-E0C3-45CB-B530-16646C21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0120" y="1217160"/>
            <a:ext cx="385477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0120" y="7074000"/>
            <a:ext cx="3854772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0120" y="17510040"/>
            <a:ext cx="3854772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814-7395-4FC6-83AD-20DC4396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0120" y="1217160"/>
            <a:ext cx="385477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0120" y="7074000"/>
            <a:ext cx="18811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882240" y="7074000"/>
            <a:ext cx="18811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0120" y="17510040"/>
            <a:ext cx="18811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882240" y="17510040"/>
            <a:ext cx="18811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B0F-157C-4CD9-AF08-EB4FE973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0120" y="1217160"/>
            <a:ext cx="385477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0120" y="7074000"/>
            <a:ext cx="12412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163200" y="7074000"/>
            <a:ext cx="12412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196280" y="7074000"/>
            <a:ext cx="12412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0120" y="17510040"/>
            <a:ext cx="12412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163200" y="17510040"/>
            <a:ext cx="12412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196280" y="17510040"/>
            <a:ext cx="12412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7A9-F5FD-4BD7-BBF3-FD2E6B84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0120" y="1217160"/>
            <a:ext cx="385477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0120" y="7074000"/>
            <a:ext cx="38547720" cy="199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24"/>
              </a:spcBef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16B-C24B-49D7-8F51-34FDB729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0120" y="1217160"/>
            <a:ext cx="385477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0120" y="7074000"/>
            <a:ext cx="38547720" cy="1998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C15-494F-4B67-8B54-742D7E62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0120" y="1217160"/>
            <a:ext cx="385477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0120" y="7074000"/>
            <a:ext cx="18811080" cy="1998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882240" y="7074000"/>
            <a:ext cx="18811080" cy="1998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904-0C91-4EC2-9797-E29DFF44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0120" y="1217160"/>
            <a:ext cx="385477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F6C-8453-42A7-A1D3-386829E5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0120" y="1217160"/>
            <a:ext cx="38547720" cy="233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24"/>
              </a:spcBef>
              <a:tabLst>
                <a:tab algn="l" pos="0"/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869-CBAA-4DF2-B0B2-324F2EEB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0120" y="1217160"/>
            <a:ext cx="385477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0120" y="7074000"/>
            <a:ext cx="18811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882240" y="7074000"/>
            <a:ext cx="18811080" cy="1998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0120" y="17510040"/>
            <a:ext cx="18811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9AB-5F12-4F22-A5D8-222F1A46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0120" y="1217160"/>
            <a:ext cx="385477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0120" y="7074000"/>
            <a:ext cx="18811080" cy="1998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882240" y="7074000"/>
            <a:ext cx="18811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882240" y="17510040"/>
            <a:ext cx="18811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953-6236-4A0C-991A-60054E9B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0120" y="1217160"/>
            <a:ext cx="385477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0120" y="7074000"/>
            <a:ext cx="18811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882240" y="7074000"/>
            <a:ext cx="1881108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0120" y="17510040"/>
            <a:ext cx="38547720" cy="95302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824"/>
              </a:spcBef>
              <a:buNone/>
              <a:tabLst>
                <a:tab algn="l" pos="4172040"/>
                <a:tab algn="l" pos="8344080"/>
              </a:tabLst>
            </a:pP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52C-E79E-4EC4-A8C5-04A0AA05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0120" y="1217160"/>
            <a:ext cx="385477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2040"/>
                <a:tab algn="l" pos="8344080"/>
              </a:tabLst>
            </a:pPr>
            <a:r>
              <a:rPr b="0" lang="en-US" sz="19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0120" y="7074000"/>
            <a:ext cx="38547720" cy="1998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565280" indent="-1565280">
              <a:spcBef>
                <a:spcPts val="3824"/>
              </a:spcBef>
              <a:buClr>
                <a:srgbClr val="000000"/>
              </a:buClr>
              <a:buFont typeface="Arial"/>
              <a:buChar char="•"/>
              <a:tabLst>
                <a:tab algn="l" pos="4172040"/>
                <a:tab algn="l" pos="8344080"/>
              </a:tabLst>
            </a:pPr>
            <a:r>
              <a:rPr b="0" lang="en-US" sz="15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  <a:p>
            <a:pPr lvl="1" marL="3398760" indent="-1301760">
              <a:spcBef>
                <a:spcPts val="3824"/>
              </a:spcBef>
              <a:buClr>
                <a:srgbClr val="000000"/>
              </a:buClr>
              <a:buFont typeface="Arial"/>
              <a:buChar char="–"/>
              <a:tabLst>
                <a:tab algn="l" pos="4172040"/>
                <a:tab algn="l" pos="8344080"/>
              </a:tabLst>
            </a:pPr>
            <a:r>
              <a:rPr b="0" lang="en-US" sz="15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  <a:p>
            <a:pPr lvl="2" marL="5207040" indent="-1035000">
              <a:spcBef>
                <a:spcPts val="3824"/>
              </a:spcBef>
              <a:buClr>
                <a:srgbClr val="000000"/>
              </a:buClr>
              <a:buFont typeface="Arial"/>
              <a:buChar char="•"/>
              <a:tabLst>
                <a:tab algn="l" pos="4172040"/>
                <a:tab algn="l" pos="8344080"/>
              </a:tabLst>
            </a:pPr>
            <a:r>
              <a:rPr b="0" lang="en-US" sz="15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  <a:p>
            <a:pPr lvl="3" marL="7305840" indent="-1035360">
              <a:spcBef>
                <a:spcPts val="3824"/>
              </a:spcBef>
              <a:buClr>
                <a:srgbClr val="000000"/>
              </a:buClr>
              <a:buFont typeface="Arial"/>
              <a:buChar char="–"/>
              <a:tabLst>
                <a:tab algn="l" pos="4172040"/>
                <a:tab algn="l" pos="8344080"/>
              </a:tabLst>
            </a:pPr>
            <a:r>
              <a:rPr b="0" lang="en-US" sz="15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  <a:p>
            <a:pPr lvl="4" marL="9402840" indent="-1057320">
              <a:spcBef>
                <a:spcPts val="3824"/>
              </a:spcBef>
              <a:buClr>
                <a:srgbClr val="000000"/>
              </a:buClr>
              <a:buFont typeface="Arial"/>
              <a:buChar char="»"/>
              <a:tabLst>
                <a:tab algn="l" pos="4172040"/>
                <a:tab algn="l" pos="8344080"/>
              </a:tabLst>
            </a:pPr>
            <a:r>
              <a:rPr b="0" lang="en-US" sz="15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  <a:p>
            <a:pPr lvl="5" marL="9402840" indent="-1057320">
              <a:spcBef>
                <a:spcPts val="3824"/>
              </a:spcBef>
              <a:buClr>
                <a:srgbClr val="000000"/>
              </a:buClr>
              <a:buFont typeface="Arial"/>
              <a:buChar char="»"/>
              <a:tabLst>
                <a:tab algn="l" pos="4172040"/>
                <a:tab algn="l" pos="8344080"/>
              </a:tabLst>
            </a:pPr>
            <a:r>
              <a:rPr b="0" lang="en-US" sz="15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  <a:p>
            <a:pPr lvl="6" marL="9402840" indent="-1057320">
              <a:spcBef>
                <a:spcPts val="3824"/>
              </a:spcBef>
              <a:buClr>
                <a:srgbClr val="000000"/>
              </a:buClr>
              <a:buFont typeface="Arial"/>
              <a:buChar char="»"/>
              <a:tabLst>
                <a:tab algn="l" pos="4172040"/>
                <a:tab algn="l" pos="8344080"/>
              </a:tabLst>
            </a:pPr>
            <a:r>
              <a:rPr b="0" lang="en-US" sz="15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0480" y="27581040"/>
            <a:ext cx="9990000" cy="2098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622120" y="27581040"/>
            <a:ext cx="13563720" cy="2098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687480" y="27581040"/>
            <a:ext cx="9990360" cy="2098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r">
              <a:buNone/>
              <a:tabLst>
                <a:tab algn="l" pos="0"/>
                <a:tab algn="l" pos="4172040"/>
                <a:tab algn="l" pos="8344080"/>
              </a:tabLst>
              <a:defRPr b="0" lang="en-US" sz="7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172040"/>
                <a:tab algn="l" pos="8344080"/>
              </a:tabLst>
            </a:pPr>
            <a:fld id="{A33A6B76-1B54-4B1E-8C9E-289F09446CD3}" type="slidenum">
              <a:rPr b="0" lang="en-US" sz="7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43581600" y="682560"/>
            <a:ext cx="12082680" cy="14100120"/>
            <a:chOff x="43581600" y="682560"/>
            <a:chExt cx="12082680" cy="1410012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43581600" y="682560"/>
              <a:ext cx="120826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A0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44526600" y="2375640"/>
              <a:ext cx="1019232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1189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841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44329680" y="5193360"/>
              <a:ext cx="10586520" cy="36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44327160" y="9702720"/>
              <a:ext cx="1059156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2:33:21Z</dcterms:modified>
  <cp:revision>9</cp:revision>
  <dc:subject/>
  <dc:title>スライド 1</dc:title>
</cp:coreProperties>
</file>