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9975" cy="42806938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200" y="365040"/>
            <a:ext cx="12920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r>
              <a:rPr b="0" lang="en-US" sz="19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3438-4B3E-4AFE-80E7-B6BB0B47B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64EA-A7E3-4379-909B-93FFF74977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25560" y="365040"/>
            <a:ext cx="129204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CD7-10F5-421C-BBAF-0B6E6D50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06240" y="1722240"/>
            <a:ext cx="272667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06240" y="9999360"/>
            <a:ext cx="2726676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06240" y="24754680"/>
            <a:ext cx="2726676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2DA-8039-49BD-B2DB-5071AD34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06240" y="1722240"/>
            <a:ext cx="272667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06240" y="9999360"/>
            <a:ext cx="1330596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77840" y="9999360"/>
            <a:ext cx="1330596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06240" y="24754680"/>
            <a:ext cx="1330596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77840" y="24754680"/>
            <a:ext cx="1330596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9A59-B9DA-46A8-B067-9EC317EC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06240" y="1722240"/>
            <a:ext cx="272667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06240" y="9999360"/>
            <a:ext cx="877968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25120" y="9999360"/>
            <a:ext cx="877968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944360" y="9999360"/>
            <a:ext cx="877968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06240" y="24754680"/>
            <a:ext cx="877968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725120" y="24754680"/>
            <a:ext cx="877968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944360" y="24754680"/>
            <a:ext cx="877968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0E8-334E-4E04-B5FB-61C61155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06240" y="1722240"/>
            <a:ext cx="272667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06240" y="9999360"/>
            <a:ext cx="27266760" cy="28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24"/>
              </a:spcBef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6C1B-0F3B-414B-8B04-A0030664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06240" y="1722240"/>
            <a:ext cx="272667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06240" y="9999360"/>
            <a:ext cx="27266760" cy="282495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7BB9-4AAA-4AFD-A6C5-E14AE57F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06240" y="1722240"/>
            <a:ext cx="272667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06240" y="9999360"/>
            <a:ext cx="13305960" cy="282495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77840" y="9999360"/>
            <a:ext cx="13305960" cy="282495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C9B-0657-4FD6-984C-492C1221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06240" y="1722240"/>
            <a:ext cx="272667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8E3-61FE-4D83-9080-EDCBA48A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06240" y="1722240"/>
            <a:ext cx="2726676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24"/>
              </a:spcBef>
              <a:tabLst>
                <a:tab algn="l" pos="0"/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C9D-7FE3-4506-97F1-13887C5D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06240" y="1722240"/>
            <a:ext cx="272667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06240" y="9999360"/>
            <a:ext cx="1330596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77840" y="9999360"/>
            <a:ext cx="13305960" cy="282495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06240" y="24754680"/>
            <a:ext cx="1330596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F7C-187A-4ACB-837D-52BA11D9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06240" y="1722240"/>
            <a:ext cx="272667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06240" y="9999360"/>
            <a:ext cx="13305960" cy="282495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77840" y="9999360"/>
            <a:ext cx="1330596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77840" y="24754680"/>
            <a:ext cx="1330596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50D-110B-4143-986E-26EB2237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240" y="1722240"/>
            <a:ext cx="272667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06240" y="9999360"/>
            <a:ext cx="1330596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77840" y="9999360"/>
            <a:ext cx="1330596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06240" y="24754680"/>
            <a:ext cx="27266760" cy="13474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B68-0643-4538-A6F9-D0C51416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06240" y="1722240"/>
            <a:ext cx="272667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r>
              <a:rPr b="0" lang="en-US" sz="19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06240" y="9999360"/>
            <a:ext cx="27266760" cy="282495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565280" indent="-1565280">
              <a:spcBef>
                <a:spcPts val="3824"/>
              </a:spcBef>
              <a:buClr>
                <a:srgbClr val="000000"/>
              </a:buClr>
              <a:buFont typeface="Arial"/>
              <a:buChar char="•"/>
              <a:tabLst>
                <a:tab algn="l" pos="4172040"/>
                <a:tab algn="l" pos="8344080"/>
              </a:tabLst>
            </a:pPr>
            <a:r>
              <a:rPr b="0" lang="en-US" sz="1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  <a:p>
            <a:pPr lvl="1" marL="3398760" indent="-1301760">
              <a:spcBef>
                <a:spcPts val="3824"/>
              </a:spcBef>
              <a:buClr>
                <a:srgbClr val="000000"/>
              </a:buClr>
              <a:buFont typeface="Arial"/>
              <a:buChar char="–"/>
              <a:tabLst>
                <a:tab algn="l" pos="4172040"/>
                <a:tab algn="l" pos="8344080"/>
              </a:tabLst>
            </a:pPr>
            <a:r>
              <a:rPr b="0" lang="en-US" sz="1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  <a:p>
            <a:pPr lvl="2" marL="5207040" indent="-1035000">
              <a:spcBef>
                <a:spcPts val="3824"/>
              </a:spcBef>
              <a:buClr>
                <a:srgbClr val="000000"/>
              </a:buClr>
              <a:buFont typeface="Arial"/>
              <a:buChar char="•"/>
              <a:tabLst>
                <a:tab algn="l" pos="4172040"/>
                <a:tab algn="l" pos="8344080"/>
              </a:tabLst>
            </a:pPr>
            <a:r>
              <a:rPr b="0" lang="en-US" sz="1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  <a:p>
            <a:pPr lvl="3" marL="7305840" indent="-1035360">
              <a:spcBef>
                <a:spcPts val="3824"/>
              </a:spcBef>
              <a:buClr>
                <a:srgbClr val="000000"/>
              </a:buClr>
              <a:buFont typeface="Arial"/>
              <a:buChar char="–"/>
              <a:tabLst>
                <a:tab algn="l" pos="4172040"/>
                <a:tab algn="l" pos="8344080"/>
              </a:tabLst>
            </a:pPr>
            <a:r>
              <a:rPr b="0" lang="en-US" sz="1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  <a:p>
            <a:pPr lvl="4" marL="9402840" indent="-1057320">
              <a:spcBef>
                <a:spcPts val="3824"/>
              </a:spcBef>
              <a:buClr>
                <a:srgbClr val="000000"/>
              </a:buClr>
              <a:buFont typeface="Arial"/>
              <a:buChar char="»"/>
              <a:tabLst>
                <a:tab algn="l" pos="4172040"/>
                <a:tab algn="l" pos="8344080"/>
              </a:tabLst>
            </a:pPr>
            <a:r>
              <a:rPr b="0" lang="en-US" sz="1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  <a:p>
            <a:pPr lvl="5" marL="9402840" indent="-1057320">
              <a:spcBef>
                <a:spcPts val="3824"/>
              </a:spcBef>
              <a:buClr>
                <a:srgbClr val="000000"/>
              </a:buClr>
              <a:buFont typeface="Arial"/>
              <a:buChar char="»"/>
              <a:tabLst>
                <a:tab algn="l" pos="4172040"/>
                <a:tab algn="l" pos="8344080"/>
              </a:tabLst>
            </a:pPr>
            <a:r>
              <a:rPr b="0" lang="en-US" sz="1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  <a:p>
            <a:pPr lvl="6" marL="9402840" indent="-1057320">
              <a:spcBef>
                <a:spcPts val="3824"/>
              </a:spcBef>
              <a:buClr>
                <a:srgbClr val="000000"/>
              </a:buClr>
              <a:buFont typeface="Arial"/>
              <a:buChar char="»"/>
              <a:tabLst>
                <a:tab algn="l" pos="4172040"/>
                <a:tab algn="l" pos="8344080"/>
              </a:tabLst>
            </a:pPr>
            <a:r>
              <a:rPr b="0" lang="en-US" sz="1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06600" y="38992320"/>
            <a:ext cx="7066080" cy="29685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3880" y="38992320"/>
            <a:ext cx="9591480" cy="29685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707280" y="38992320"/>
            <a:ext cx="7065720" cy="29685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 algn="r">
              <a:buNone/>
              <a:tabLst>
                <a:tab algn="l" pos="0"/>
                <a:tab algn="l" pos="4172040"/>
                <a:tab algn="l" pos="8344080"/>
              </a:tabLst>
              <a:defRPr b="0" lang="en-US" sz="7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172040"/>
                <a:tab algn="l" pos="8344080"/>
              </a:tabLst>
            </a:pPr>
            <a:fld id="{E2F35E5F-81A5-456B-84F5-4BB3A706DA27}" type="slidenum">
              <a:rPr b="0" lang="en-US" sz="7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31403880" y="682560"/>
            <a:ext cx="12080880" cy="14100120"/>
            <a:chOff x="31403880" y="682560"/>
            <a:chExt cx="12080880" cy="1410012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31403880" y="682560"/>
              <a:ext cx="1208088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A0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32348880" y="2375640"/>
              <a:ext cx="1019088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841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1189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32151600" y="5193360"/>
              <a:ext cx="10585080" cy="36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32149440" y="9702720"/>
              <a:ext cx="1058976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2:33:30Z</dcterms:modified>
  <cp:revision>10</cp:revision>
  <dc:subject/>
  <dc:title>スライド 1</dc:title>
</cp:coreProperties>
</file>