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2160428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4560" y="365040"/>
            <a:ext cx="91440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27E3-2707-4C71-8494-4F29DD5CF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58A2-B861-464D-BB1F-05E5D907C3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14560" y="365040"/>
            <a:ext cx="91440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FF2-4340-4884-BA6C-C498B67E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871200"/>
            <a:ext cx="973440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5043240"/>
            <a:ext cx="97344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12488400"/>
            <a:ext cx="97344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A29-C1EF-46CD-A6C2-5A2AAC1D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871200"/>
            <a:ext cx="973440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5043240"/>
            <a:ext cx="47502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1680" y="5043240"/>
            <a:ext cx="47502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12488400"/>
            <a:ext cx="47502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1680" y="12488400"/>
            <a:ext cx="47502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25D-80AD-4258-B974-1BE5B01F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871200"/>
            <a:ext cx="973440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5043240"/>
            <a:ext cx="313416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4640" y="5043240"/>
            <a:ext cx="313416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6120" y="5043240"/>
            <a:ext cx="313416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12488400"/>
            <a:ext cx="313416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4640" y="12488400"/>
            <a:ext cx="313416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6120" y="12488400"/>
            <a:ext cx="313416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118-459E-4CAC-B308-65DEA535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871200"/>
            <a:ext cx="973440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5043240"/>
            <a:ext cx="9734400" cy="142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D1F-974C-40A3-92BC-E20B24C9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871200"/>
            <a:ext cx="973440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5043240"/>
            <a:ext cx="9734400" cy="14254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888-B71F-43FE-B963-0DA55DC2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871200"/>
            <a:ext cx="973440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5043240"/>
            <a:ext cx="4750200" cy="14254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1680" y="5043240"/>
            <a:ext cx="4750200" cy="14254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0AB-0D63-4246-84DD-189DD718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71200"/>
            <a:ext cx="973440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DCC-4434-4490-BC39-7817689D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871200"/>
            <a:ext cx="9734400" cy="166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6C2-B5D4-4BFE-8C12-ACCF5607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871200"/>
            <a:ext cx="973440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5043240"/>
            <a:ext cx="47502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1680" y="5043240"/>
            <a:ext cx="4750200" cy="14254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12488400"/>
            <a:ext cx="47502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F60-6B54-409B-A59C-B2FD90F2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871200"/>
            <a:ext cx="973440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5043240"/>
            <a:ext cx="4750200" cy="14254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1680" y="5043240"/>
            <a:ext cx="47502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1680" y="12488400"/>
            <a:ext cx="47502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05A-FCF2-419D-B786-2D1DE75F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871200"/>
            <a:ext cx="973440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5043240"/>
            <a:ext cx="47502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1680" y="5043240"/>
            <a:ext cx="47502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12488400"/>
            <a:ext cx="9734400" cy="679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25D-B2CE-49F8-BB9C-9BB1E0B1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871200"/>
            <a:ext cx="9734400" cy="36003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5043240"/>
            <a:ext cx="9734400" cy="14254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marL="677880" indent="-6778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73120" indent="-560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52520" indent="-4507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165480" indent="-4525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19678680"/>
            <a:ext cx="2523960" cy="148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5760" y="19678680"/>
            <a:ext cx="3409920" cy="148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3600" y="19678680"/>
            <a:ext cx="2523960" cy="148896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lstStyle>
            <a:lvl1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03F97BDF-989B-43FA-A974-64B8904382F8}" type="slidenum">
              <a:rPr b="0" lang="en-US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1422080" y="1187280"/>
            <a:ext cx="9958320" cy="16427520"/>
            <a:chOff x="11422080" y="1187280"/>
            <a:chExt cx="9958320" cy="1642752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11422080" y="1187280"/>
              <a:ext cx="995832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300x600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12201120" y="3159720"/>
              <a:ext cx="8400240" cy="3189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300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600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2038400" y="6442920"/>
              <a:ext cx="8725320" cy="42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12036600" y="11696400"/>
              <a:ext cx="8729280" cy="59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6:19:07Z</dcterms:modified>
  <cp:revision>13</cp:revision>
  <dc:subject/>
  <dc:title>スライド 1</dc:title>
</cp:coreProperties>
</file>