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206988" cy="216042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255960" y="365040"/>
            <a:ext cx="36543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F8A6-0D07-44B7-8BA2-8A51944CD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B4D5-4F3E-4BD2-9571-BF756B1FA0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255600" y="365040"/>
            <a:ext cx="36543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F82-B38B-4122-AA7C-7A7B508B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4800" y="5043240"/>
            <a:ext cx="38935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4800" y="12488400"/>
            <a:ext cx="38935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7B3-044A-4BCF-A5AF-E5B9F6FE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4800" y="504324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5280" y="504324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4800" y="1248840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5280" y="1248840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1FA-1C6B-4154-902F-9E491C88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4800" y="5043240"/>
            <a:ext cx="125370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98920" y="5043240"/>
            <a:ext cx="125370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63400" y="5043240"/>
            <a:ext cx="125370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4800" y="12488400"/>
            <a:ext cx="125370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98920" y="12488400"/>
            <a:ext cx="125370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63400" y="12488400"/>
            <a:ext cx="125370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D8F-1229-41CE-8C6A-CE8B4F3E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4800" y="5043240"/>
            <a:ext cx="38935080" cy="142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D5C-DFDA-4227-B7CA-C0056DCA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4800" y="5043240"/>
            <a:ext cx="3893508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F8A-570E-4EFC-A41D-26B76BE7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4800" y="5043240"/>
            <a:ext cx="1900008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5280" y="5043240"/>
            <a:ext cx="1900008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8C4-4D37-4C38-B2B3-E93E67E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607-444D-4739-8C37-A1B85917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4800" y="871200"/>
            <a:ext cx="38935080" cy="166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AF1-EE23-4AEF-A158-67F234CA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4800" y="504324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5280" y="5043240"/>
            <a:ext cx="1900008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4800" y="1248840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4E0-E0A6-4004-B105-7C764AE4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4800" y="5043240"/>
            <a:ext cx="1900008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5280" y="504324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5280" y="1248840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D15-D5E7-4C01-AC50-AA01873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4800" y="504324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5280" y="5043240"/>
            <a:ext cx="19000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4800" y="12488400"/>
            <a:ext cx="3893508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54E-8534-4119-AF82-3DF322C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4800" y="871200"/>
            <a:ext cx="3893508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4800" y="5043240"/>
            <a:ext cx="3893508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5160" y="19678680"/>
            <a:ext cx="1009656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79440" y="19678680"/>
            <a:ext cx="1364580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73680" y="19678680"/>
            <a:ext cx="1009656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97A232FA-C7C5-439D-AEBA-F9823906D30C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4562640" y="23085360"/>
            <a:ext cx="33600960" cy="14374800"/>
            <a:chOff x="4562640" y="23085360"/>
            <a:chExt cx="33600960" cy="1437480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4562640" y="23085360"/>
              <a:ext cx="336009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1200x600/2400x1200</a:t>
              </a:r>
              <a:r>
                <a:rPr b="1" lang="en-US" sz="6000" spc="-1" strike="noStrike" baseline="30000">
                  <a:solidFill>
                    <a:srgbClr val="000000"/>
                  </a:solidFill>
                  <a:latin typeface="ＭＳ Ｐゴシック"/>
                </a:rPr>
                <a:t>※2 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4562640" y="25058160"/>
              <a:ext cx="33600960" cy="1543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1" lang="ja-JP" sz="5400" spc="-1" strike="noStrike" baseline="40000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2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6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562640" y="27243720"/>
              <a:ext cx="33600960" cy="21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 fontScale="5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サイズ制限上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2400x1200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原寸は設定できないた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50%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縮小のサイズに設定しています。印刷時に拡大します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562640" y="31541400"/>
              <a:ext cx="33600960" cy="59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8:00:07Z</dcterms:modified>
  <cp:revision>18</cp:revision>
  <dc:subject/>
  <dc:title>スライド 1</dc:title>
</cp:coreProperties>
</file>