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1079976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168920" y="365040"/>
            <a:ext cx="54802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1E1-8D02-4F41-99EC-940011A3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6F7-234C-47FE-B394-C46DEC9696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1168560" y="365040"/>
            <a:ext cx="54802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C64-8A56-4768-A29C-60487DF8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292006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1280" y="6244560"/>
            <a:ext cx="292006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B87-9867-4484-A1E1-20E3A4B7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96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1280" y="62445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960" y="62445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8B5-6B9D-4C15-8D09-2CA8080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4280" y="25221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7280" y="25221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1280" y="62445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4280" y="62445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7280" y="6244560"/>
            <a:ext cx="94024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3C7-7E75-471B-99CD-F080ED63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1280" y="2522160"/>
            <a:ext cx="29200680" cy="71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92C-DB06-4556-87B9-E64E4E8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292006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A8D-7CCB-4EDA-9031-7E4CA767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142498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960" y="2522160"/>
            <a:ext cx="142498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EEE-8351-4217-84F3-5FDBFC52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684-EB8C-4AF1-8EC2-D5F7803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1280" y="434520"/>
            <a:ext cx="29200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082-F012-4D0E-A86C-68A9A029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960" y="2522160"/>
            <a:ext cx="142498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1280" y="62445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A23-4F13-43F3-BA84-C8A05F2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142498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96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960" y="62445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CA7-F05A-494F-B7FB-FBA9B86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128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960" y="2522160"/>
            <a:ext cx="142498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1280" y="6244560"/>
            <a:ext cx="292006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C1F-F485-4405-A3BC-7544A81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1280" y="434520"/>
            <a:ext cx="292006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1280" y="2522160"/>
            <a:ext cx="292006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 fontScale="86000"/>
          </a:bodyPr>
          <a:p>
            <a:pPr marL="582840" indent="-58284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266840" indent="-48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1937160" indent="-3873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2721960" indent="-389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1280" y="9838800"/>
            <a:ext cx="757260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85120" y="9838800"/>
            <a:ext cx="1023300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9360" y="9838800"/>
            <a:ext cx="757260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5A533F60-4CCE-4396-8CF8-4C6355FD14D8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084320" y="11808000"/>
            <a:ext cx="29876760" cy="9320040"/>
            <a:chOff x="1084320" y="11808000"/>
            <a:chExt cx="29876760" cy="932004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084320" y="11808000"/>
              <a:ext cx="298767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900x3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3421440" y="12794040"/>
              <a:ext cx="25202160" cy="1543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1" lang="ja-JP" sz="5400" spc="-1" strike="noStrike" baseline="40000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9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3421440" y="15481080"/>
              <a:ext cx="25202160" cy="21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3421440" y="18168840"/>
              <a:ext cx="2520216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21:41Z</dcterms:modified>
  <cp:revision>15</cp:revision>
  <dc:subject/>
  <dc:title>スライド 1</dc:title>
</cp:coreProperties>
</file>