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404050" cy="21604288"/>
  <p:notesSz cx="3143250" cy="48704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3142800" cy="48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780920" y="-36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1240" y="365040"/>
            <a:ext cx="2739960" cy="182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462564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780920" y="462564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B9663-C1A6-4E72-B34A-F9E3BB3C7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1781280" y="4626000"/>
            <a:ext cx="1361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661CF-84FF-438C-B35C-7006E6F4DE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201600" y="365040"/>
            <a:ext cx="2739960" cy="182736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BAF3-E895-4DB9-9BB0-4798CDF87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03440" y="870120"/>
            <a:ext cx="29198880" cy="36036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03440" y="5044680"/>
            <a:ext cx="29198880" cy="679824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03440" y="12489120"/>
            <a:ext cx="29198880" cy="679824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D089-78C9-4ABA-8143-4A6308F8A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03440" y="870120"/>
            <a:ext cx="29198880" cy="36036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03440" y="5044680"/>
            <a:ext cx="14248800" cy="679824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565040" y="5044680"/>
            <a:ext cx="14248800" cy="679824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03440" y="12489120"/>
            <a:ext cx="14248800" cy="679824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565040" y="12489120"/>
            <a:ext cx="14248800" cy="679824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041A-F8D5-42EB-B200-C7F9E02C9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03440" y="870120"/>
            <a:ext cx="29198880" cy="36036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03440" y="5044680"/>
            <a:ext cx="9401760" cy="679824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475720" y="5044680"/>
            <a:ext cx="9401760" cy="679824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348000" y="5044680"/>
            <a:ext cx="9401760" cy="679824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03440" y="12489120"/>
            <a:ext cx="9401760" cy="679824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475720" y="12489120"/>
            <a:ext cx="9401760" cy="679824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348000" y="12489120"/>
            <a:ext cx="9401760" cy="679824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7F6D-AFF0-4BBF-B8B8-80FDF698C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03440" y="870120"/>
            <a:ext cx="29198880" cy="36036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03440" y="5044680"/>
            <a:ext cx="29198880" cy="142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4765-C065-471D-B3A0-DE516988A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03440" y="870120"/>
            <a:ext cx="29198880" cy="36036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03440" y="5044680"/>
            <a:ext cx="29198880" cy="142527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3193-F534-436B-A1F0-913C81BAB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03440" y="870120"/>
            <a:ext cx="29198880" cy="36036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03440" y="5044680"/>
            <a:ext cx="14248800" cy="142527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565040" y="5044680"/>
            <a:ext cx="14248800" cy="142527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2174-E0FD-4ACF-B489-6B839B157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03440" y="870120"/>
            <a:ext cx="29198880" cy="36036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2E0C-6C63-465B-B380-4BD0ABB34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03440" y="870120"/>
            <a:ext cx="29198880" cy="167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9E09-98A3-49C2-BBF2-CB1C56B0D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03440" y="870120"/>
            <a:ext cx="29198880" cy="36036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03440" y="5044680"/>
            <a:ext cx="14248800" cy="679824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565040" y="5044680"/>
            <a:ext cx="14248800" cy="142527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03440" y="12489120"/>
            <a:ext cx="14248800" cy="679824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FCEF-F49C-4DCD-A930-132F3355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03440" y="870120"/>
            <a:ext cx="29198880" cy="36036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03440" y="5044680"/>
            <a:ext cx="14248800" cy="142527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565040" y="5044680"/>
            <a:ext cx="14248800" cy="679824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565040" y="12489120"/>
            <a:ext cx="14248800" cy="679824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AC80-BECB-4D53-A566-67AA8673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03440" y="870120"/>
            <a:ext cx="29198880" cy="36036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03440" y="5044680"/>
            <a:ext cx="14248800" cy="679824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565040" y="5044680"/>
            <a:ext cx="14248800" cy="679824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03440" y="12489120"/>
            <a:ext cx="29198880" cy="679824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C2C8-788E-4418-845C-8856BE48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03440" y="870120"/>
            <a:ext cx="29198880" cy="36036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03440" y="5044680"/>
            <a:ext cx="29198880" cy="142527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marL="677880" indent="-6778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1" marL="1473120" indent="-560160"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2" marL="2252520" indent="-45072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3" marL="3165480" indent="-452520"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4" marL="4070520" indent="-460440"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5" marL="4070520" indent="-460440"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6" marL="4070520" indent="-460440"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03080" y="19678680"/>
            <a:ext cx="7569000" cy="14889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085480" y="19678680"/>
            <a:ext cx="10234800" cy="14889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231520" y="19678680"/>
            <a:ext cx="7570800" cy="14889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Autofit/>
          </a:bodyPr>
          <a:lstStyle>
            <a:lvl1pPr indent="0" algn="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  <a:defRPr b="0" lang="en-US" sz="2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fld id="{EBEFCBE7-0648-49F6-AC26-120915EE3497}" type="slidenum">
              <a:rPr b="0" lang="en-US" sz="2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グループ化 1"/>
          <p:cNvGrpSpPr/>
          <p:nvPr/>
        </p:nvGrpSpPr>
        <p:grpSpPr>
          <a:xfrm>
            <a:off x="1539720" y="22560120"/>
            <a:ext cx="29613240" cy="11310840"/>
            <a:chOff x="1539720" y="22560120"/>
            <a:chExt cx="29613240" cy="11310840"/>
          </a:xfrm>
        </p:grpSpPr>
        <p:sp>
          <p:nvSpPr>
            <p:cNvPr id="49" name="テキスト ボックス 2"/>
            <p:cNvSpPr/>
            <p:nvPr/>
          </p:nvSpPr>
          <p:spPr>
            <a:xfrm>
              <a:off x="2097360" y="22560120"/>
              <a:ext cx="2849760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6000" spc="-1" strike="noStrike">
                  <a:solidFill>
                    <a:srgbClr val="000000"/>
                  </a:solidFill>
                  <a:latin typeface="ＭＳ Ｐゴシック"/>
                </a:rPr>
                <a:t>テンプレート：</a:t>
              </a:r>
              <a:r>
                <a:rPr b="1" lang="en-US" sz="6000" spc="-1" strike="noStrike">
                  <a:solidFill>
                    <a:srgbClr val="000000"/>
                  </a:solidFill>
                  <a:latin typeface="ＭＳ Ｐゴシック"/>
                </a:rPr>
                <a:t>900x600/1800x1200</a:t>
              </a:r>
              <a:r>
                <a:rPr b="1" lang="en-US" sz="6000" spc="-1" strike="noStrike" baseline="30000">
                  <a:solidFill>
                    <a:srgbClr val="000000"/>
                  </a:solidFill>
                  <a:latin typeface="ＭＳ Ｐゴシック"/>
                </a:rPr>
                <a:t>※2</a:t>
              </a:r>
              <a:r>
                <a:rPr b="1" lang="ja-JP" sz="6000" spc="-1" strike="noStrike">
                  <a:solidFill>
                    <a:srgbClr val="000000"/>
                  </a:solidFill>
                  <a:latin typeface="ＭＳ Ｐゴシック"/>
                </a:rPr>
                <a:t>（横向き）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テキスト ボックス 3"/>
            <p:cNvSpPr/>
            <p:nvPr/>
          </p:nvSpPr>
          <p:spPr>
            <a:xfrm>
              <a:off x="2097360" y="23791680"/>
              <a:ext cx="28497600" cy="15433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360000" bIns="36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ページ設定</a:t>
              </a:r>
              <a:r>
                <a:rPr b="1" lang="en-US" sz="5400" spc="-1" strike="noStrike" baseline="40000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5400" spc="-1" strike="noStrike" baseline="40000">
                  <a:solidFill>
                    <a:srgbClr val="000000"/>
                  </a:solidFill>
                  <a:latin typeface="ＭＳ Ｐゴシック"/>
                </a:rPr>
                <a:t>1</a:t>
              </a:r>
              <a:r>
                <a:rPr b="1" lang="ja-JP" sz="5400" spc="-1" strike="noStrike" baseline="40000">
                  <a:solidFill>
                    <a:srgbClr val="000000"/>
                  </a:solidFill>
                  <a:latin typeface="ＭＳ Ｐゴシック"/>
                </a:rPr>
                <a:t>　　</a:t>
              </a: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幅 </a:t>
              </a:r>
              <a:r>
                <a:rPr b="0" lang="en-US" sz="5400" spc="-1" strike="noStrike">
                  <a:solidFill>
                    <a:srgbClr val="000000"/>
                  </a:solidFill>
                  <a:latin typeface="ＭＳ Ｐゴシック"/>
                </a:rPr>
                <a:t>900mm</a:t>
              </a: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en-US" sz="5400" spc="-1" strike="noStrike">
                  <a:solidFill>
                    <a:srgbClr val="000000"/>
                  </a:solidFill>
                  <a:latin typeface="ＭＳ Ｐゴシック"/>
                </a:rPr>
                <a:t>×</a:t>
              </a: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高さ </a:t>
              </a:r>
              <a:r>
                <a:rPr b="0" lang="en-US" sz="5400" spc="-1" strike="noStrike">
                  <a:solidFill>
                    <a:srgbClr val="000000"/>
                  </a:solidFill>
                  <a:latin typeface="ＭＳ Ｐゴシック"/>
                </a:rPr>
                <a:t>600mm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テキスト ボックス 4"/>
            <p:cNvSpPr/>
            <p:nvPr/>
          </p:nvSpPr>
          <p:spPr>
            <a:xfrm>
              <a:off x="1546200" y="25994520"/>
              <a:ext cx="29600280" cy="31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4800" spc="-1" strike="noStrike">
                  <a:solidFill>
                    <a:srgbClr val="000000"/>
                  </a:solidFill>
                  <a:latin typeface="ＭＳ Ｐゴシック"/>
                </a:rPr>
                <a:t>1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ＭＳ Ｐゴシック"/>
                </a:rPr>
                <a:t>PowerPoint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のバージョンによっては数値に若干誤差が生じている場合がありますが、そのまま作成いただいて問題ございません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4800" spc="-1" strike="noStrike">
                  <a:solidFill>
                    <a:srgbClr val="000000"/>
                  </a:solidFill>
                  <a:latin typeface="ＭＳ Ｐゴシック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ＭＳ Ｐゴシック"/>
                </a:rPr>
                <a:t>PowerPoint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のサイズ制限上、</a:t>
              </a:r>
              <a:r>
                <a:rPr b="0" lang="en-US" sz="4800" spc="-1" strike="noStrike">
                  <a:solidFill>
                    <a:srgbClr val="000000"/>
                  </a:solidFill>
                  <a:latin typeface="ＭＳ Ｐゴシック"/>
                </a:rPr>
                <a:t>1800x1200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原寸は設定できないため</a:t>
              </a:r>
              <a:r>
                <a:rPr b="0" lang="en-US" sz="4800" spc="-1" strike="noStrike">
                  <a:solidFill>
                    <a:srgbClr val="000000"/>
                  </a:solidFill>
                  <a:latin typeface="ＭＳ Ｐゴシック"/>
                </a:rPr>
                <a:t>50%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縮小のサイズに設定しています。印刷時に拡大します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テキスト ボックス 6"/>
            <p:cNvSpPr/>
            <p:nvPr/>
          </p:nvSpPr>
          <p:spPr>
            <a:xfrm>
              <a:off x="1539720" y="32056560"/>
              <a:ext cx="29613240" cy="18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4800" spc="-1" strike="noStrike">
                  <a:solidFill>
                    <a:srgbClr val="ff0000"/>
                  </a:solidFill>
                  <a:latin typeface="ＭＳ Ｐゴシック"/>
                </a:rPr>
                <a:t>データ作成の注意事項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仕上がりギリギリまで文字・写真・絵柄が入る場合は、用紙の白が出ないように若干拡大して印刷します。そのため切れては困る文字や絵柄は、仕上がりより</a:t>
              </a:r>
              <a:r>
                <a:rPr b="0" lang="en-US" sz="4800" spc="-1" strike="noStrike">
                  <a:solidFill>
                    <a:srgbClr val="000000"/>
                  </a:solidFill>
                  <a:latin typeface="ＭＳ Ｐゴシック"/>
                </a:rPr>
                <a:t>3mm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内側に配置してください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05:25:09Z</dcterms:created>
  <dc:creator>販促応援.com</dc:creator>
  <dc:description/>
  <dc:language>en-US</dc:language>
  <cp:lastModifiedBy>hanami</cp:lastModifiedBy>
  <dcterms:modified xsi:type="dcterms:W3CDTF">2015-09-25T07:57:03Z</dcterms:modified>
  <cp:revision>19</cp:revision>
  <dc:subject/>
  <dc:title>スライド 1</dc:title>
</cp:coreProperties>
</file>