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43206988" cy="10799763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-2083320" y="365040"/>
            <a:ext cx="730908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7BC0-B756-489A-BA7B-B57497834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851B-7BED-437F-8DAD-11CED4CA9C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-2082960" y="365040"/>
            <a:ext cx="730908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8CD4-9F2B-4A18-9EA6-0D6EF96A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4800" y="434520"/>
            <a:ext cx="3893508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4800" y="2522160"/>
            <a:ext cx="3893508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34800" y="6244560"/>
            <a:ext cx="3893508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53B3-A514-4611-B287-77ADD965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4800" y="434520"/>
            <a:ext cx="3893508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34800" y="2522160"/>
            <a:ext cx="1900008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5280" y="2522160"/>
            <a:ext cx="1900008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34800" y="6244560"/>
            <a:ext cx="1900008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5280" y="6244560"/>
            <a:ext cx="1900008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1CEF-BF94-4815-812E-F3351667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4800" y="434520"/>
            <a:ext cx="3893508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34800" y="2522160"/>
            <a:ext cx="1253700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98920" y="2522160"/>
            <a:ext cx="1253700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63400" y="2522160"/>
            <a:ext cx="1253700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34800" y="6244560"/>
            <a:ext cx="1253700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98920" y="6244560"/>
            <a:ext cx="1253700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63400" y="6244560"/>
            <a:ext cx="1253700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D468-7CEB-4BF8-810F-FACBD059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4800" y="434520"/>
            <a:ext cx="3893508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34800" y="2522160"/>
            <a:ext cx="38935080" cy="71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A1D0-17D1-4B46-B9B0-2C95943B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4800" y="434520"/>
            <a:ext cx="3893508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34800" y="2522160"/>
            <a:ext cx="38935080" cy="71262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D972-0720-441C-AF1F-E70E11B8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4800" y="434520"/>
            <a:ext cx="3893508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34800" y="2522160"/>
            <a:ext cx="19000080" cy="71262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5280" y="2522160"/>
            <a:ext cx="19000080" cy="71262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5EF5-695A-429F-A571-3ED81F79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4800" y="434520"/>
            <a:ext cx="3893508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1054-F860-4AC5-A746-3EEB15E8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4800" y="434520"/>
            <a:ext cx="389350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7309-2D1D-4349-8FDF-A134DD76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4800" y="434520"/>
            <a:ext cx="3893508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34800" y="2522160"/>
            <a:ext cx="1900008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5280" y="2522160"/>
            <a:ext cx="19000080" cy="71262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34800" y="6244560"/>
            <a:ext cx="1900008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683B-79BF-4E85-BF6D-AEB746B9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4800" y="434520"/>
            <a:ext cx="3893508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4800" y="2522160"/>
            <a:ext cx="19000080" cy="71262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5280" y="2522160"/>
            <a:ext cx="1900008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5280" y="6244560"/>
            <a:ext cx="1900008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F640-B2F5-4FD6-894B-9F26DF7D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4800" y="434520"/>
            <a:ext cx="3893508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4800" y="2522160"/>
            <a:ext cx="1900008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5280" y="2522160"/>
            <a:ext cx="1900008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34800" y="6244560"/>
            <a:ext cx="38935080" cy="33991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F464-A36C-48A7-99C8-E2898496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4800" y="434520"/>
            <a:ext cx="38935080" cy="18018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4800" y="2522160"/>
            <a:ext cx="38935080" cy="71262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 fontScale="86000"/>
          </a:bodyPr>
          <a:p>
            <a:pPr marL="582840" indent="-58284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266840" indent="-48168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1937160" indent="-38736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2721960" indent="-38916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3500640" indent="-3956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3500640" indent="-3956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3500640" indent="-3956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5160" y="9838800"/>
            <a:ext cx="10096560" cy="7448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79440" y="9838800"/>
            <a:ext cx="13645800" cy="7448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73680" y="9838800"/>
            <a:ext cx="10096560" cy="74484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lstStyle>
            <a:lvl1pPr indent="0" algn="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fld id="{EEA1B22F-0484-44B7-92A6-806B4E6C327C}" type="slidenum">
              <a:rPr b="0" lang="en-US" sz="2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1446120" y="11808000"/>
            <a:ext cx="39833640" cy="8232480"/>
            <a:chOff x="1446120" y="11808000"/>
            <a:chExt cx="39833640" cy="823248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1446120" y="11808000"/>
              <a:ext cx="398336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6000" spc="-1" strike="noStrike">
                  <a:solidFill>
                    <a:srgbClr val="000000"/>
                  </a:solidFill>
                  <a:latin typeface="ＭＳ Ｐゴシック"/>
                </a:rPr>
                <a:t>1200x300</a:t>
              </a: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（横向き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4562280" y="12794040"/>
              <a:ext cx="33601320" cy="15433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360000" bIns="36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1" lang="ja-JP" sz="5400" spc="-1" strike="noStrike" baseline="40000">
                  <a:solidFill>
                    <a:srgbClr val="000000"/>
                  </a:solidFill>
                  <a:latin typeface="ＭＳ Ｐゴシック"/>
                </a:rPr>
                <a:t>　　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1200mm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300m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4562280" y="14951880"/>
              <a:ext cx="33601320" cy="21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4562280" y="17081640"/>
              <a:ext cx="33601320" cy="29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6:24:09Z</dcterms:modified>
  <cp:revision>16</cp:revision>
  <dc:subject/>
  <dc:title>スライド 1</dc:title>
</cp:coreProperties>
</file>