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365040"/>
            <a:ext cx="1292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DA16-A9C9-4A15-81A4-35C7F102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0BCD-F02F-48BA-9CFF-BEE10DF215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5560" y="365040"/>
            <a:ext cx="1292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624-A1AF-46B6-A8C5-D94C3000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2362068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21439080"/>
            <a:ext cx="2362068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538-D73C-4C7F-92F3-AB8627E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398480" y="865800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2143908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398480" y="2143908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4A4-9830-4681-B714-640B8B36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760572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281160" y="8658000"/>
            <a:ext cx="760572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267760" y="8658000"/>
            <a:ext cx="760572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21439080"/>
            <a:ext cx="760572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281160" y="21439080"/>
            <a:ext cx="760572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267760" y="21439080"/>
            <a:ext cx="760572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DF7-DC2D-4DD8-B4D8-D8006D98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8658000"/>
            <a:ext cx="23620680" cy="244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26"/>
              </a:spcBef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BA9-A097-40D6-9663-43E5FEE9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23620680" cy="24469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E24-FD33-4B15-822B-16A3F800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11526840" cy="24469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480" y="8658000"/>
            <a:ext cx="11526840" cy="24469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529-75E4-4159-A799-4A64801D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30D-E127-4881-B900-8A6AC88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495080"/>
            <a:ext cx="23620680" cy="2865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26"/>
              </a:spcBef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BBE-C305-4174-823D-22C0DD6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398480" y="8658000"/>
            <a:ext cx="11526840" cy="24469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2143908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D84-CF9F-41AE-9E97-9D05BBCD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11526840" cy="24469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398480" y="865800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398480" y="2143908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C78-BF87-4573-8605-CA50ED0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865800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398480" y="8658000"/>
            <a:ext cx="1152684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21439080"/>
            <a:ext cx="23620680" cy="1167192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D89-69C9-4D7A-B371-EA7DED0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495080"/>
            <a:ext cx="23620680" cy="6181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8658000"/>
            <a:ext cx="23620680" cy="244695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marL="1353960" indent="-135396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1" marL="2944800" indent="-1119240">
              <a:spcBef>
                <a:spcPts val="3226"/>
              </a:spcBef>
              <a:buClr>
                <a:srgbClr val="000000"/>
              </a:buClr>
              <a:buFont typeface="Arial"/>
              <a:buChar char="–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2" marL="4503600" indent="-90000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3" marL="6329520" indent="-903600">
              <a:spcBef>
                <a:spcPts val="3226"/>
              </a:spcBef>
              <a:buClr>
                <a:srgbClr val="000000"/>
              </a:buClr>
              <a:buFont typeface="Arial"/>
              <a:buChar char="–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4" marL="8139240" indent="-919440">
              <a:spcBef>
                <a:spcPts val="3226"/>
              </a:spcBef>
              <a:buClr>
                <a:srgbClr val="000000"/>
              </a:buClr>
              <a:buFont typeface="Arial"/>
              <a:buChar char="»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5" marL="8139240" indent="-919440">
              <a:spcBef>
                <a:spcPts val="3226"/>
              </a:spcBef>
              <a:buClr>
                <a:srgbClr val="000000"/>
              </a:buClr>
              <a:buFont typeface="Arial"/>
              <a:buChar char="»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6" marL="8139240" indent="-919440">
              <a:spcBef>
                <a:spcPts val="3226"/>
              </a:spcBef>
              <a:buClr>
                <a:srgbClr val="000000"/>
              </a:buClr>
              <a:buFont typeface="Arial"/>
              <a:buChar char="»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33782040"/>
            <a:ext cx="6124680" cy="25560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965800" y="33782040"/>
            <a:ext cx="8278920" cy="25560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790920" y="33782040"/>
            <a:ext cx="6124680" cy="25560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Autofit/>
          </a:bodyPr>
          <a:lstStyle>
            <a:lvl1pPr indent="0" algn="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fld id="{4A5E9990-E13E-4577-A7FB-808622A5DB71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6"/>
          <p:cNvGrpSpPr/>
          <p:nvPr/>
        </p:nvGrpSpPr>
        <p:grpSpPr>
          <a:xfrm>
            <a:off x="27038160" y="682560"/>
            <a:ext cx="12082680" cy="14100120"/>
            <a:chOff x="27038160" y="682560"/>
            <a:chExt cx="12082680" cy="14100120"/>
          </a:xfrm>
        </p:grpSpPr>
        <p:sp>
          <p:nvSpPr>
            <p:cNvPr id="49" name="テキスト ボックス 7"/>
            <p:cNvSpPr/>
            <p:nvPr/>
          </p:nvSpPr>
          <p:spPr>
            <a:xfrm>
              <a:off x="27038160" y="682560"/>
              <a:ext cx="120826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B1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8"/>
            <p:cNvSpPr/>
            <p:nvPr/>
          </p:nvSpPr>
          <p:spPr>
            <a:xfrm>
              <a:off x="27983160" y="2375640"/>
              <a:ext cx="1019232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728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03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9"/>
            <p:cNvSpPr/>
            <p:nvPr/>
          </p:nvSpPr>
          <p:spPr>
            <a:xfrm>
              <a:off x="27786240" y="5193360"/>
              <a:ext cx="1058652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7783720" y="9702720"/>
              <a:ext cx="105915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3:05:01Z</dcterms:modified>
  <cp:revision>17</cp:revision>
  <dc:subject/>
  <dc:title>スライド 1</dc:title>
</cp:coreProperties>
</file>