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6203613" cy="32404050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4560" y="365040"/>
            <a:ext cx="91440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B1E3-F46E-43CC-8B24-635E699CE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5CFB-F4C3-4EEF-85B8-38E665638A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14560" y="365040"/>
            <a:ext cx="91440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A3F-DCF7-4C2A-8D8D-860304F5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1304640"/>
            <a:ext cx="14598720" cy="5405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7567560"/>
            <a:ext cx="1459872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18734400"/>
            <a:ext cx="1459872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83DF-E90F-409A-87A0-4438FD20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1304640"/>
            <a:ext cx="14598720" cy="5405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7567560"/>
            <a:ext cx="712404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82520" y="7567560"/>
            <a:ext cx="712404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18734400"/>
            <a:ext cx="712404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282520" y="18734400"/>
            <a:ext cx="712404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6DBF-CF86-4DEC-82DE-3B8F9921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1304640"/>
            <a:ext cx="14598720" cy="5405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7567560"/>
            <a:ext cx="470052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37680" y="7567560"/>
            <a:ext cx="470052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73640" y="7567560"/>
            <a:ext cx="470052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18734400"/>
            <a:ext cx="470052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37680" y="18734400"/>
            <a:ext cx="470052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673640" y="18734400"/>
            <a:ext cx="470052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54A-E202-423F-A4A3-FBFF095A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1304640"/>
            <a:ext cx="14598720" cy="5405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7567560"/>
            <a:ext cx="14598720" cy="21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73C-C42A-4232-A98F-B838E0ED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1304640"/>
            <a:ext cx="14598720" cy="5405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7567560"/>
            <a:ext cx="14598720" cy="2137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32B6-658F-4628-BB7A-8E56C415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1304640"/>
            <a:ext cx="14598720" cy="5405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7567560"/>
            <a:ext cx="7124040" cy="2137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282520" y="7567560"/>
            <a:ext cx="7124040" cy="2137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40AE-B0D6-4516-B968-8418DE9B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1304640"/>
            <a:ext cx="14598720" cy="5405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7418-CB05-417C-9AFB-D84E45EC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1304640"/>
            <a:ext cx="14598720" cy="25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B6C-BFF2-440B-B43C-3BC0B583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1304640"/>
            <a:ext cx="14598720" cy="5405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7567560"/>
            <a:ext cx="712404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282520" y="7567560"/>
            <a:ext cx="7124040" cy="2137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18734400"/>
            <a:ext cx="712404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A540-C853-4DCB-9411-B1F2536C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1304640"/>
            <a:ext cx="14598720" cy="5405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7567560"/>
            <a:ext cx="7124040" cy="2137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282520" y="7567560"/>
            <a:ext cx="712404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82520" y="18734400"/>
            <a:ext cx="712404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8EC-C01B-433A-9366-8F1F4A6E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1304640"/>
            <a:ext cx="14598720" cy="5405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7567560"/>
            <a:ext cx="712404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282520" y="7567560"/>
            <a:ext cx="712404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18734400"/>
            <a:ext cx="14598720" cy="10197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B602-13AD-4CD7-A13F-CB1690AD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1304640"/>
            <a:ext cx="14598720" cy="5405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7567560"/>
            <a:ext cx="14598720" cy="2137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marL="677880" indent="-6778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73120" indent="-5601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52520" indent="-45072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165480" indent="-45252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1360" y="29517480"/>
            <a:ext cx="3784680" cy="2233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41480" y="29517480"/>
            <a:ext cx="5118120" cy="2233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15400" y="29517480"/>
            <a:ext cx="3784680" cy="2233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lstStyle>
            <a:lvl1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7725166B-D601-4F50-9BA0-76D4BED4E958}" type="slidenum">
              <a:rPr b="0" lang="en-US" sz="2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18054720" y="2397240"/>
            <a:ext cx="11206080" cy="18903960"/>
            <a:chOff x="18054720" y="2397240"/>
            <a:chExt cx="11206080" cy="1890396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18265680" y="2397240"/>
              <a:ext cx="10784160" cy="18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450x900/900x1800</a:t>
              </a:r>
              <a:r>
                <a:rPr b="1" lang="en-US" sz="6000" spc="-1" strike="noStrike" baseline="30000">
                  <a:solidFill>
                    <a:srgbClr val="000000"/>
                  </a:solidFill>
                  <a:latin typeface="ＭＳ Ｐゴシック"/>
                </a:rPr>
                <a:t>※2</a:t>
              </a: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（縦向き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18265680" y="4739400"/>
              <a:ext cx="10784160" cy="236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450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900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18056880" y="7843680"/>
              <a:ext cx="11201400" cy="73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サイズ制限上、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900x1800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原寸は設定できないため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50%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縮小のサイズに設定しています。印刷時に拡大します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18054720" y="15987960"/>
              <a:ext cx="11206080" cy="53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7:54:19Z</dcterms:modified>
  <cp:revision>18</cp:revision>
  <dc:subject/>
  <dc:title>スライド 1</dc:title>
</cp:coreProperties>
</file>