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8543588" cy="26211213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5200" y="365040"/>
            <a:ext cx="129204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548080"/>
                <a:tab algn="l" pos="5095800"/>
                <a:tab algn="l" pos="7643880"/>
                <a:tab algn="l" pos="101916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1E67-7ADA-4986-9EEB-D12235D1A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9D75-34ED-48A3-995B-1B0D1B982E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25560" y="365040"/>
            <a:ext cx="129204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7053-1D9E-416D-B285-EE29DB56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5480" y="1056960"/>
            <a:ext cx="16710120" cy="436860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ctr">
            <a:noAutofit/>
          </a:bodyPr>
          <a:p>
            <a:pPr indent="0" algn="ctr">
              <a:buNone/>
              <a:tabLst>
                <a:tab algn="l" pos="0"/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5480" y="6119640"/>
            <a:ext cx="16710120" cy="82497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5480" y="15153480"/>
            <a:ext cx="16710120" cy="82497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F0C6-FA4B-4D8B-9F91-01DC8E46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5480" y="1056960"/>
            <a:ext cx="16710120" cy="436860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ctr">
            <a:noAutofit/>
          </a:bodyPr>
          <a:p>
            <a:pPr indent="0" algn="ctr">
              <a:buNone/>
              <a:tabLst>
                <a:tab algn="l" pos="0"/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5480" y="6119640"/>
            <a:ext cx="8154360" cy="82497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478080" y="6119640"/>
            <a:ext cx="8154360" cy="82497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5480" y="15153480"/>
            <a:ext cx="8154360" cy="82497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478080" y="15153480"/>
            <a:ext cx="8154360" cy="82497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0FE5-074C-4C10-8708-65596275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5480" y="1056960"/>
            <a:ext cx="16710120" cy="436860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ctr">
            <a:noAutofit/>
          </a:bodyPr>
          <a:p>
            <a:pPr indent="0" algn="ctr">
              <a:buNone/>
              <a:tabLst>
                <a:tab algn="l" pos="0"/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5480" y="6119640"/>
            <a:ext cx="5380560" cy="82497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565320" y="6119640"/>
            <a:ext cx="5380560" cy="82497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215520" y="6119640"/>
            <a:ext cx="5380560" cy="82497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5480" y="15153480"/>
            <a:ext cx="5380560" cy="82497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565320" y="15153480"/>
            <a:ext cx="5380560" cy="82497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2215520" y="15153480"/>
            <a:ext cx="5380560" cy="82497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6FB4-F538-449B-9023-65716653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5480" y="1056960"/>
            <a:ext cx="16710120" cy="436860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ctr">
            <a:noAutofit/>
          </a:bodyPr>
          <a:p>
            <a:pPr indent="0" algn="ctr">
              <a:buNone/>
              <a:tabLst>
                <a:tab algn="l" pos="0"/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5480" y="6119640"/>
            <a:ext cx="16710120" cy="172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76"/>
              </a:spcBef>
              <a:buNone/>
              <a:tabLst>
                <a:tab algn="l" pos="0"/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B6B5-5223-4956-B0A1-1869B08B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5480" y="1056960"/>
            <a:ext cx="16710120" cy="436860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ctr">
            <a:noAutofit/>
          </a:bodyPr>
          <a:p>
            <a:pPr indent="0" algn="ctr">
              <a:buNone/>
              <a:tabLst>
                <a:tab algn="l" pos="0"/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5480" y="6119640"/>
            <a:ext cx="16710120" cy="1729584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95E8-8983-45C3-ABF7-BCC00C09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5480" y="1056960"/>
            <a:ext cx="16710120" cy="436860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ctr">
            <a:noAutofit/>
          </a:bodyPr>
          <a:p>
            <a:pPr indent="0" algn="ctr">
              <a:buNone/>
              <a:tabLst>
                <a:tab algn="l" pos="0"/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5480" y="6119640"/>
            <a:ext cx="8154360" cy="1729584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478080" y="6119640"/>
            <a:ext cx="8154360" cy="1729584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767F-EDB5-4B9C-B2A6-F6FB3E2E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5480" y="1056960"/>
            <a:ext cx="16710120" cy="436860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ctr">
            <a:noAutofit/>
          </a:bodyPr>
          <a:p>
            <a:pPr indent="0" algn="ctr">
              <a:buNone/>
              <a:tabLst>
                <a:tab algn="l" pos="0"/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B4A1-F186-4560-91B5-88B52AB4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5480" y="1056960"/>
            <a:ext cx="16710120" cy="202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76"/>
              </a:spcBef>
              <a:tabLst>
                <a:tab algn="l" pos="0"/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A20E-4B78-4692-B8BB-AE7DA110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5480" y="1056960"/>
            <a:ext cx="16710120" cy="436860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ctr">
            <a:noAutofit/>
          </a:bodyPr>
          <a:p>
            <a:pPr indent="0" algn="ctr">
              <a:buNone/>
              <a:tabLst>
                <a:tab algn="l" pos="0"/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5480" y="6119640"/>
            <a:ext cx="8154360" cy="82497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478080" y="6119640"/>
            <a:ext cx="8154360" cy="1729584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5480" y="15153480"/>
            <a:ext cx="8154360" cy="82497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CEE3-4ADB-49E8-BA69-F3B40DC9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5480" y="1056960"/>
            <a:ext cx="16710120" cy="436860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ctr">
            <a:noAutofit/>
          </a:bodyPr>
          <a:p>
            <a:pPr indent="0" algn="ctr">
              <a:buNone/>
              <a:tabLst>
                <a:tab algn="l" pos="0"/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5480" y="6119640"/>
            <a:ext cx="8154360" cy="1729584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478080" y="6119640"/>
            <a:ext cx="8154360" cy="82497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78080" y="15153480"/>
            <a:ext cx="8154360" cy="82497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80D3-0131-485B-B1EE-0FF0AC5F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5480" y="1056960"/>
            <a:ext cx="16710120" cy="436860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ctr">
            <a:noAutofit/>
          </a:bodyPr>
          <a:p>
            <a:pPr indent="0" algn="ctr">
              <a:buNone/>
              <a:tabLst>
                <a:tab algn="l" pos="0"/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5480" y="6119640"/>
            <a:ext cx="8154360" cy="82497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478080" y="6119640"/>
            <a:ext cx="8154360" cy="82497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5480" y="15153480"/>
            <a:ext cx="16710120" cy="82497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9CF9-84CA-407E-B05E-A59009C3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5480" y="1056960"/>
            <a:ext cx="16710120" cy="436860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ctr">
            <a:noAutofit/>
          </a:bodyPr>
          <a:p>
            <a:pPr indent="0" algn="ctr">
              <a:buNone/>
              <a:tabLst>
                <a:tab algn="l" pos="0"/>
                <a:tab algn="l" pos="2548080"/>
                <a:tab algn="l" pos="5095800"/>
                <a:tab algn="l" pos="7643880"/>
                <a:tab algn="l" pos="101916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5480" y="6119640"/>
            <a:ext cx="16710120" cy="1729584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marL="957240" indent="-957240"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lvl="1" marL="2082960" indent="-792360">
              <a:spcBef>
                <a:spcPts val="2276"/>
              </a:spcBef>
              <a:buClr>
                <a:srgbClr val="000000"/>
              </a:buClr>
              <a:buFont typeface="Arial"/>
              <a:buChar char="–"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lvl="2" marL="3184560" indent="-636480"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lvl="3" marL="4475160" indent="-639720">
              <a:spcBef>
                <a:spcPts val="2276"/>
              </a:spcBef>
              <a:buClr>
                <a:srgbClr val="000000"/>
              </a:buClr>
              <a:buFont typeface="Arial"/>
              <a:buChar char="–"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lvl="4" marL="5754600" indent="-650880">
              <a:spcBef>
                <a:spcPts val="2276"/>
              </a:spcBef>
              <a:buClr>
                <a:srgbClr val="000000"/>
              </a:buClr>
              <a:buFont typeface="Arial"/>
              <a:buChar char="»"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lvl="5" marL="5754600" indent="-650880">
              <a:spcBef>
                <a:spcPts val="2276"/>
              </a:spcBef>
              <a:buClr>
                <a:srgbClr val="000000"/>
              </a:buClr>
              <a:buFont typeface="Arial"/>
              <a:buChar char="»"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lvl="6" marL="5754600" indent="-650880">
              <a:spcBef>
                <a:spcPts val="2276"/>
              </a:spcBef>
              <a:buClr>
                <a:srgbClr val="000000"/>
              </a:buClr>
              <a:buFont typeface="Arial"/>
              <a:buChar char="»"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5480" y="23877720"/>
            <a:ext cx="4334040" cy="180648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343200" y="23877720"/>
            <a:ext cx="5854680" cy="180648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292280" y="23877720"/>
            <a:ext cx="4333680" cy="180648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Autofit/>
          </a:bodyPr>
          <a:lstStyle>
            <a:lvl1pPr indent="0" algn="r">
              <a:buNone/>
              <a:tabLst>
                <a:tab algn="l" pos="0"/>
                <a:tab algn="l" pos="2548080"/>
                <a:tab algn="l" pos="5095800"/>
                <a:tab algn="l" pos="7643880"/>
                <a:tab algn="l" pos="10191600"/>
              </a:tabLst>
              <a:defRPr b="0" lang="en-US" sz="4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548080"/>
                <a:tab algn="l" pos="5095800"/>
                <a:tab algn="l" pos="7643880"/>
                <a:tab algn="l" pos="10191600"/>
              </a:tabLst>
            </a:pPr>
            <a:fld id="{999B32D8-D9F1-4B0F-A76C-132516891B90}" type="slidenum">
              <a:rPr b="0" lang="en-US" sz="4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19624680" y="682560"/>
            <a:ext cx="12082320" cy="17613360"/>
            <a:chOff x="19624680" y="682560"/>
            <a:chExt cx="12082320" cy="1761336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19624680" y="682560"/>
              <a:ext cx="1208232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6000" spc="-1" strike="noStrike">
                  <a:solidFill>
                    <a:srgbClr val="000000"/>
                  </a:solidFill>
                  <a:latin typeface="ＭＳ Ｐゴシック"/>
                </a:rPr>
                <a:t>B2/B0</a:t>
              </a:r>
              <a:r>
                <a:rPr b="1" lang="en-US" sz="6000" spc="-1" strike="noStrike" baseline="30000">
                  <a:solidFill>
                    <a:srgbClr val="000000"/>
                  </a:solidFill>
                  <a:latin typeface="ＭＳ Ｐゴシック"/>
                </a:rPr>
                <a:t>※2</a:t>
              </a: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（縦向き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20569680" y="2375640"/>
              <a:ext cx="10191960" cy="2366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360000" bIns="36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515mm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728m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20372760" y="5193360"/>
              <a:ext cx="10586160" cy="76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サイズ制限上、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B0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原寸は設定できないため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50%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縮小のサイズに設定しています。印刷時に拡大します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20370240" y="13215960"/>
              <a:ext cx="10591200" cy="50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3:32:44Z</dcterms:modified>
  <cp:revision>14</cp:revision>
  <dc:subject/>
  <dc:title>スライド 1</dc:title>
</cp:coreProperties>
</file>