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604288" cy="4320698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5640" y="365040"/>
            <a:ext cx="91116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8300-9572-4395-B930-14D0702B8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1C6E-651B-480A-ACC9-71603DC62D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16000" y="365040"/>
            <a:ext cx="91116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E4F-4D82-4A33-9FEE-90ED2F1E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1743120"/>
            <a:ext cx="194691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0086840"/>
            <a:ext cx="194691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24977520"/>
            <a:ext cx="194691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A13A-0A78-4E25-92E3-1FA3671E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1743120"/>
            <a:ext cx="194691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0086840"/>
            <a:ext cx="95007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042640" y="10086840"/>
            <a:ext cx="95007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24977520"/>
            <a:ext cx="95007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042640" y="24977520"/>
            <a:ext cx="95007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211-B4E4-4C8E-BA74-6496FB6D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1743120"/>
            <a:ext cx="194691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0086840"/>
            <a:ext cx="626868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48920" y="10086840"/>
            <a:ext cx="626868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31160" y="10086840"/>
            <a:ext cx="626868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24977520"/>
            <a:ext cx="626868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648920" y="24977520"/>
            <a:ext cx="626868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31160" y="24977520"/>
            <a:ext cx="626868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059-3791-4F31-96C1-F1C1FF3C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1743120"/>
            <a:ext cx="194691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0086840"/>
            <a:ext cx="19469160" cy="28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E90-E40F-4C11-BD9C-07B61717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1743120"/>
            <a:ext cx="194691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0086840"/>
            <a:ext cx="1946916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490-5093-4948-944A-5135591D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1743120"/>
            <a:ext cx="194691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0086840"/>
            <a:ext cx="950076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042640" y="10086840"/>
            <a:ext cx="950076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1F9-664F-4E28-8992-FB4EB43A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1743120"/>
            <a:ext cx="194691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17E9-ED4A-4BA9-A9DF-EA5C6C50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1743120"/>
            <a:ext cx="1946916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685-EDA0-419B-A1A3-7100A97C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1743120"/>
            <a:ext cx="194691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0086840"/>
            <a:ext cx="95007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042640" y="10086840"/>
            <a:ext cx="950076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24977520"/>
            <a:ext cx="95007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81A-9008-4C9B-BA3A-9F4CAC43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743120"/>
            <a:ext cx="194691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0086840"/>
            <a:ext cx="950076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042640" y="10086840"/>
            <a:ext cx="95007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042640" y="24977520"/>
            <a:ext cx="95007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B81-1214-460E-A8B4-95D4B4F6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743120"/>
            <a:ext cx="194691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0086840"/>
            <a:ext cx="95007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042640" y="10086840"/>
            <a:ext cx="95007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24977520"/>
            <a:ext cx="194691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7CE-A34E-48C9-B11A-9B333A87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1743120"/>
            <a:ext cx="194691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0086840"/>
            <a:ext cx="1946916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marL="677880" indent="-6778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73120" indent="-560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52520" indent="-4507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165480" indent="-4525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320" y="39357360"/>
            <a:ext cx="5048280" cy="29779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91520" y="39357360"/>
            <a:ext cx="6819840" cy="29779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487200" y="39357360"/>
            <a:ext cx="5048280" cy="29779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lstStyle>
            <a:lvl1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45974EC2-C55A-4EF7-8C06-1D08917F1C6C}" type="slidenum">
              <a:rPr b="0" lang="en-US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23491800" y="1754280"/>
            <a:ext cx="15291000" cy="17448120"/>
            <a:chOff x="23491800" y="1754280"/>
            <a:chExt cx="15291000" cy="1744812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23491800" y="1754280"/>
              <a:ext cx="152910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600x1200/1200x2400</a:t>
              </a:r>
              <a:r>
                <a:rPr b="1" lang="en-US" sz="6000" spc="-1" strike="noStrike" baseline="30000">
                  <a:solidFill>
                    <a:srgbClr val="000000"/>
                  </a:solidFill>
                  <a:latin typeface="ＭＳ Ｐゴシック"/>
                </a:rPr>
                <a:t>※2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23491800" y="3604320"/>
              <a:ext cx="1529100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600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1200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23491800" y="6797160"/>
              <a:ext cx="15284160" cy="85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サイズ制限上、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1200x1800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原寸は設定できないため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50%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縮小のサイズに設定しています。印刷時に拡大します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23491800" y="14101200"/>
              <a:ext cx="15291000" cy="51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8:01:56Z</dcterms:modified>
  <cp:revision>17</cp:revision>
  <dc:subject/>
  <dc:title>スライド 1</dc:title>
</cp:coreProperties>
</file>