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799763" cy="32404050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66480" y="365040"/>
            <a:ext cx="60948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0984-45F2-4AB9-A313-2E1CAFEA7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E77F-7B54-4D14-A153-94BBA03E21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266840" y="365040"/>
            <a:ext cx="60948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341E-B331-4958-A279-6ACC7DD5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307880"/>
            <a:ext cx="9734400" cy="54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7566120"/>
            <a:ext cx="9734400" cy="101984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18733680"/>
            <a:ext cx="9734400" cy="101984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2307-3236-42F4-AA45-EC7A25D8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1307880"/>
            <a:ext cx="9734400" cy="54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7566120"/>
            <a:ext cx="4750200" cy="101984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1680" y="7566120"/>
            <a:ext cx="4750200" cy="101984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18733680"/>
            <a:ext cx="4750200" cy="101984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1680" y="18733680"/>
            <a:ext cx="4750200" cy="101984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2045-4B69-4AB2-A25F-F47F3228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307880"/>
            <a:ext cx="9734400" cy="54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7566120"/>
            <a:ext cx="3134160" cy="101984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4640" y="7566120"/>
            <a:ext cx="3134160" cy="101984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6120" y="7566120"/>
            <a:ext cx="3134160" cy="101984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18733680"/>
            <a:ext cx="3134160" cy="101984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4640" y="18733680"/>
            <a:ext cx="3134160" cy="101984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6120" y="18733680"/>
            <a:ext cx="3134160" cy="101984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32C-B1EB-4DF8-942D-46FE5ED8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07880"/>
            <a:ext cx="9734400" cy="54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7566120"/>
            <a:ext cx="9734400" cy="213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45C-FF52-4004-9E56-05306E76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307880"/>
            <a:ext cx="9734400" cy="54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7566120"/>
            <a:ext cx="9734400" cy="21380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049-94D6-42C0-B936-5085B83D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307880"/>
            <a:ext cx="9734400" cy="54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7566120"/>
            <a:ext cx="4750200" cy="21380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1680" y="7566120"/>
            <a:ext cx="4750200" cy="21380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0039-8E0D-4169-98E6-7F02B439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307880"/>
            <a:ext cx="9734400" cy="54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D812-049E-4799-A207-251693A0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1307880"/>
            <a:ext cx="9734400" cy="250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29E3-5F8D-47E0-AC41-390C2D65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307880"/>
            <a:ext cx="9734400" cy="54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7566120"/>
            <a:ext cx="4750200" cy="101984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1680" y="7566120"/>
            <a:ext cx="4750200" cy="21380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18733680"/>
            <a:ext cx="4750200" cy="101984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889-8084-4410-B1BF-36B9144A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1307880"/>
            <a:ext cx="9734400" cy="54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7566120"/>
            <a:ext cx="4750200" cy="21380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1680" y="7566120"/>
            <a:ext cx="4750200" cy="101984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1680" y="18733680"/>
            <a:ext cx="4750200" cy="101984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0EBB-110E-47D4-9622-ACBD22FC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307880"/>
            <a:ext cx="9734400" cy="54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7566120"/>
            <a:ext cx="4750200" cy="101984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1680" y="7566120"/>
            <a:ext cx="4750200" cy="101984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18733680"/>
            <a:ext cx="9734400" cy="101984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094-EFA5-4693-806C-62973041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307880"/>
            <a:ext cx="9734400" cy="54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7566120"/>
            <a:ext cx="9734400" cy="21380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marL="677880" indent="-6778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73120" indent="-56016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52520" indent="-45072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165480" indent="-45252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160" y="29517480"/>
            <a:ext cx="2523960" cy="2233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5760" y="29517480"/>
            <a:ext cx="3409920" cy="2233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3600" y="29517480"/>
            <a:ext cx="2523960" cy="2233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lstStyle>
            <a:lvl1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CDF70C42-0513-4F67-8258-3A22AB0D7DF4}" type="slidenum">
              <a:rPr b="0" lang="en-US" sz="2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11422080" y="1781280"/>
            <a:ext cx="9958320" cy="17998920"/>
            <a:chOff x="11422080" y="1781280"/>
            <a:chExt cx="9958320" cy="1799892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11422080" y="1781280"/>
              <a:ext cx="995832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6000" spc="-1" strike="noStrike">
                  <a:solidFill>
                    <a:srgbClr val="000000"/>
                  </a:solidFill>
                  <a:latin typeface="ＭＳ Ｐゴシック"/>
                </a:rPr>
                <a:t>300x900</a:t>
              </a: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（縦向き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12201120" y="3569400"/>
              <a:ext cx="8400240" cy="3189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300mm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900m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12201120" y="6469200"/>
              <a:ext cx="8725320" cy="63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12197160" y="10902600"/>
              <a:ext cx="8729280" cy="88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6:22:29Z</dcterms:modified>
  <cp:revision>14</cp:revision>
  <dc:subject/>
  <dc:title>スライド 1</dc:title>
</cp:coreProperties>
</file>