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8388" cy="151241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160" y="365040"/>
            <a:ext cx="25812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8079-0C1F-4D76-A644-EE929DF80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F69-DD16-4C93-89A1-77ABBD1F1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81160" y="365040"/>
            <a:ext cx="25812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5DD-B5B2-4242-AFDB-DE2776BF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3800" y="3531960"/>
            <a:ext cx="1925928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3800" y="8744040"/>
            <a:ext cx="1925928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5A6-6026-450A-A399-A2CEF895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3800" y="353196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353196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3800" y="874404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874404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FF6-7B6E-40C4-913D-1DF7FB0A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3800" y="3531960"/>
            <a:ext cx="620136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5480" y="3531960"/>
            <a:ext cx="620136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7520" y="3531960"/>
            <a:ext cx="620136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3800" y="8744040"/>
            <a:ext cx="620136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5480" y="8744040"/>
            <a:ext cx="620136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7520" y="8744040"/>
            <a:ext cx="620136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EEB-1E03-4434-A685-B9540CEA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3800" y="3531960"/>
            <a:ext cx="1925928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54B-2003-4836-B102-89317F4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3800" y="3531960"/>
            <a:ext cx="19259280" cy="99788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C87-6225-4E04-8B60-3BFE5B27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3531960"/>
            <a:ext cx="9398520" cy="99788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3531960"/>
            <a:ext cx="9398520" cy="99788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FD6-9DEA-4FB6-9E6F-C6E48963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C14-AF7F-42DF-9419-B1CC0C26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3800" y="607680"/>
            <a:ext cx="1925928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F23-806C-41B3-99B6-1F21B828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3800" y="353196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3531960"/>
            <a:ext cx="9398520" cy="99788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3800" y="874404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82E-67F4-44D8-B164-512724D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3800" y="3531960"/>
            <a:ext cx="9398520" cy="99788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353196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874404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73B-8D1F-419A-9492-7F8E1D6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3800" y="353196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3531960"/>
            <a:ext cx="939852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3800" y="8744040"/>
            <a:ext cx="19259280" cy="47595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653-922F-4F50-9345-E15AA2C2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3800" y="607680"/>
            <a:ext cx="19259280" cy="252108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3800" y="3531960"/>
            <a:ext cx="19259280" cy="997884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rmAutofit/>
          </a:bodyPr>
          <a:p>
            <a:pPr marL="782640" indent="-78264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088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2" marL="2602080" indent="-51768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3" marL="3649680" indent="-51768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4" marL="4697280" indent="-5284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5" marL="4697280" indent="-5284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6" marL="4697280" indent="-5284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3800" y="13774320"/>
            <a:ext cx="4991040" cy="10479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5840" y="13774320"/>
            <a:ext cx="6775200" cy="10479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32040" y="13774320"/>
            <a:ext cx="4991040" cy="1047960"/>
          </a:xfrm>
          <a:prstGeom prst="rect">
            <a:avLst/>
          </a:prstGeom>
          <a:noFill/>
          <a:ln w="0">
            <a:noFill/>
          </a:ln>
        </p:spPr>
        <p:txBody>
          <a:bodyPr lIns="208440" rIns="20844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  <a:defRPr b="0" lang="en-US" sz="3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fld id="{CA1176C3-5CC9-49F1-B936-BA074E6BEBC0}" type="slidenum">
              <a:rPr b="0" lang="en-US" sz="3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2037760" y="393840"/>
            <a:ext cx="12082320" cy="14100120"/>
            <a:chOff x="22037760" y="393840"/>
            <a:chExt cx="12082320" cy="141001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2037760" y="393840"/>
              <a:ext cx="1208232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A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2982760" y="2086920"/>
              <a:ext cx="101919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594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42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2785840" y="4904640"/>
              <a:ext cx="1058616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2783320" y="9414000"/>
              <a:ext cx="1059120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32:06Z</dcterms:modified>
  <cp:revision>7</cp:revision>
  <dc:subject/>
  <dc:title>スライド 1</dc:title>
</cp:coreProperties>
</file>