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124113" cy="21388388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5200" y="365040"/>
            <a:ext cx="129204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r>
              <a:rPr b="0" lang="en-US" sz="9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8143-6E2D-41C0-B4B6-367767767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3A5F-47AF-4CA2-9D26-FC797B0FD3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25560" y="365040"/>
            <a:ext cx="129204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9572-2E2F-46A4-BF9E-A9D951B1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040" y="860400"/>
            <a:ext cx="13617720" cy="356400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040" y="4995360"/>
            <a:ext cx="13617720" cy="67316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040" y="12367080"/>
            <a:ext cx="13617720" cy="67316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B6A-658E-48A6-896C-C5F185BC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040" y="860400"/>
            <a:ext cx="13617720" cy="356400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040" y="4995360"/>
            <a:ext cx="6645240" cy="67316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4995360"/>
            <a:ext cx="6645240" cy="67316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040" y="12367080"/>
            <a:ext cx="6645240" cy="67316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12367080"/>
            <a:ext cx="6645240" cy="67316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C912-A3C1-47D7-9EFB-E76C29A1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040" y="860400"/>
            <a:ext cx="13617720" cy="356400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040" y="4995360"/>
            <a:ext cx="4384800" cy="67316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6440" y="4995360"/>
            <a:ext cx="4384800" cy="67316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60840" y="4995360"/>
            <a:ext cx="4384800" cy="67316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040" y="12367080"/>
            <a:ext cx="4384800" cy="67316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6440" y="12367080"/>
            <a:ext cx="4384800" cy="67316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60840" y="12367080"/>
            <a:ext cx="4384800" cy="67316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8817-FB59-4405-A977-AFB498B9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040" y="860400"/>
            <a:ext cx="13617720" cy="356400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040" y="4995360"/>
            <a:ext cx="13617720" cy="141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99"/>
              </a:spcBef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8D8-A2F8-4E0F-90F2-57FF0A66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040" y="860400"/>
            <a:ext cx="13617720" cy="356400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040" y="4995360"/>
            <a:ext cx="13617720" cy="1411308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12D7-4F94-4409-B760-49EE18E9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040" y="860400"/>
            <a:ext cx="13617720" cy="356400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040" y="4995360"/>
            <a:ext cx="6645240" cy="1411308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4995360"/>
            <a:ext cx="6645240" cy="1411308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37B8-6964-49E9-B33A-C86D8997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040" y="860400"/>
            <a:ext cx="13617720" cy="356400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42A-1752-4E1D-9E4C-24C3A710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040" y="860400"/>
            <a:ext cx="13617720" cy="165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99"/>
              </a:spcBef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93F3-07DD-47CB-A7CD-9B3D1C14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040" y="860400"/>
            <a:ext cx="13617720" cy="356400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040" y="4995360"/>
            <a:ext cx="6645240" cy="67316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4995360"/>
            <a:ext cx="6645240" cy="1411308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040" y="12367080"/>
            <a:ext cx="6645240" cy="67316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C33D-B5A1-4A75-B234-E6F9420F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040" y="860400"/>
            <a:ext cx="13617720" cy="356400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040" y="4995360"/>
            <a:ext cx="6645240" cy="1411308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4995360"/>
            <a:ext cx="6645240" cy="67316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12367080"/>
            <a:ext cx="6645240" cy="67316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965-A982-4937-9D44-FB8CA4E6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040" y="860400"/>
            <a:ext cx="13617720" cy="356400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040" y="4995360"/>
            <a:ext cx="6645240" cy="67316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4995360"/>
            <a:ext cx="6645240" cy="67316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040" y="12367080"/>
            <a:ext cx="13617720" cy="67316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24C-EB62-4F78-ACA7-0EECE671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040" y="860400"/>
            <a:ext cx="13617720" cy="356400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r>
              <a:rPr b="0" lang="en-US" sz="9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040" y="4995360"/>
            <a:ext cx="13617720" cy="1411308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marL="782640" indent="-782640">
              <a:spcBef>
                <a:spcPts val="1899"/>
              </a:spcBef>
              <a:buClr>
                <a:srgbClr val="000000"/>
              </a:buClr>
              <a:buFont typeface="Arial"/>
              <a:buChar char="•"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lvl="1" marL="1698480" indent="-650880">
              <a:spcBef>
                <a:spcPts val="1899"/>
              </a:spcBef>
              <a:buClr>
                <a:srgbClr val="000000"/>
              </a:buClr>
              <a:buFont typeface="Arial"/>
              <a:buChar char="–"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lvl="2" marL="2602080" indent="-517680">
              <a:spcBef>
                <a:spcPts val="1899"/>
              </a:spcBef>
              <a:buClr>
                <a:srgbClr val="000000"/>
              </a:buClr>
              <a:buFont typeface="Arial"/>
              <a:buChar char="•"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lvl="3" marL="3649680" indent="-517680">
              <a:spcBef>
                <a:spcPts val="1899"/>
              </a:spcBef>
              <a:buClr>
                <a:srgbClr val="000000"/>
              </a:buClr>
              <a:buFont typeface="Arial"/>
              <a:buChar char="–"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lvl="4" marL="4697280" indent="-528480">
              <a:spcBef>
                <a:spcPts val="1899"/>
              </a:spcBef>
              <a:buClr>
                <a:srgbClr val="000000"/>
              </a:buClr>
              <a:buFont typeface="Arial"/>
              <a:buChar char="»"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lvl="5" marL="4697280" indent="-528480">
              <a:spcBef>
                <a:spcPts val="1899"/>
              </a:spcBef>
              <a:buClr>
                <a:srgbClr val="000000"/>
              </a:buClr>
              <a:buFont typeface="Arial"/>
              <a:buChar char="»"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lvl="6" marL="4697280" indent="-528480">
              <a:spcBef>
                <a:spcPts val="1899"/>
              </a:spcBef>
              <a:buClr>
                <a:srgbClr val="000000"/>
              </a:buClr>
              <a:buFont typeface="Arial"/>
              <a:buChar char="»"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040" y="19480320"/>
            <a:ext cx="3529080" cy="148248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5280" y="19480320"/>
            <a:ext cx="4791240" cy="148248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40680" y="19480320"/>
            <a:ext cx="3529080" cy="148248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  <a:defRPr b="0" lang="en-US" sz="3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fld id="{1DF347D4-D6D8-4A64-BA89-56D57A0ED56B}" type="slidenum">
              <a:rPr b="0" lang="en-US" sz="3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15492240" y="682560"/>
            <a:ext cx="12082680" cy="14100120"/>
            <a:chOff x="15492240" y="682560"/>
            <a:chExt cx="12082680" cy="1410012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15492240" y="682560"/>
              <a:ext cx="1208268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A2</a:t>
              </a: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（縦向き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16437240" y="2375640"/>
              <a:ext cx="10192320" cy="236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420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594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16240320" y="5193360"/>
              <a:ext cx="10586520" cy="36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16237800" y="9702720"/>
              <a:ext cx="10591560" cy="50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2:30:37Z</dcterms:modified>
  <cp:revision>7</cp:revision>
  <dc:subject/>
  <dc:title>スライド 1</dc:title>
</cp:coreProperties>
</file>