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21388388" cy="30279975"/>
  <p:notesSz cx="3143250" cy="48704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3142800" cy="48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780920" y="-36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6640" y="365040"/>
            <a:ext cx="1289160" cy="182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2949480"/>
                <a:tab algn="l" pos="5899320"/>
                <a:tab algn="l" pos="8848800"/>
              </a:tabLst>
            </a:pPr>
            <a:r>
              <a:rPr b="0" lang="en-US" sz="137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462564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780920" y="462564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964CA-65BD-4D99-97AE-A90E61A63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7"/>
          <p:cNvSpPr/>
          <p:nvPr/>
        </p:nvSpPr>
        <p:spPr>
          <a:xfrm>
            <a:off x="1781280" y="4626000"/>
            <a:ext cx="1361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35E0D-0201-4D23-B962-9B9F5D97932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927000" y="365040"/>
            <a:ext cx="1289160" cy="182736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8966-E0B4-404E-AB1F-BBC956A15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3800" y="1217160"/>
            <a:ext cx="19259280" cy="504684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ctr">
            <a:noAutofit/>
          </a:bodyPr>
          <a:p>
            <a:pPr indent="0" algn="ctr">
              <a:buNone/>
              <a:tabLst>
                <a:tab algn="l" pos="0"/>
                <a:tab algn="l" pos="2949480"/>
                <a:tab algn="l" pos="5899320"/>
                <a:tab algn="l" pos="8848800"/>
              </a:tabLst>
            </a:pPr>
            <a:endParaRPr b="0" lang="en-US" sz="1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3800" y="7074000"/>
            <a:ext cx="19259280" cy="953028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2949480"/>
                <a:tab algn="l" pos="5899320"/>
                <a:tab algn="l" pos="88488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3800" y="17510040"/>
            <a:ext cx="19259280" cy="953028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2949480"/>
                <a:tab algn="l" pos="5899320"/>
                <a:tab algn="l" pos="88488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C9CF-A6CB-41ED-B53F-F6B37A829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3800" y="1217160"/>
            <a:ext cx="19259280" cy="504684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ctr">
            <a:noAutofit/>
          </a:bodyPr>
          <a:p>
            <a:pPr indent="0" algn="ctr">
              <a:buNone/>
              <a:tabLst>
                <a:tab algn="l" pos="0"/>
                <a:tab algn="l" pos="2949480"/>
                <a:tab algn="l" pos="5899320"/>
                <a:tab algn="l" pos="8848800"/>
              </a:tabLst>
            </a:pPr>
            <a:endParaRPr b="0" lang="en-US" sz="1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3800" y="7074000"/>
            <a:ext cx="9398520" cy="953028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2949480"/>
                <a:tab algn="l" pos="5899320"/>
                <a:tab algn="l" pos="88488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932480" y="7074000"/>
            <a:ext cx="9398520" cy="953028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2949480"/>
                <a:tab algn="l" pos="5899320"/>
                <a:tab algn="l" pos="88488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3800" y="17510040"/>
            <a:ext cx="9398520" cy="953028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2949480"/>
                <a:tab algn="l" pos="5899320"/>
                <a:tab algn="l" pos="88488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0932480" y="17510040"/>
            <a:ext cx="9398520" cy="953028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2949480"/>
                <a:tab algn="l" pos="5899320"/>
                <a:tab algn="l" pos="88488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C53A-C35E-41D3-A56C-CE7802374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3800" y="1217160"/>
            <a:ext cx="19259280" cy="504684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ctr">
            <a:noAutofit/>
          </a:bodyPr>
          <a:p>
            <a:pPr indent="0" algn="ctr">
              <a:buNone/>
              <a:tabLst>
                <a:tab algn="l" pos="0"/>
                <a:tab algn="l" pos="2949480"/>
                <a:tab algn="l" pos="5899320"/>
                <a:tab algn="l" pos="8848800"/>
              </a:tabLst>
            </a:pPr>
            <a:endParaRPr b="0" lang="en-US" sz="1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3800" y="7074000"/>
            <a:ext cx="6201360" cy="953028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2949480"/>
                <a:tab algn="l" pos="5899320"/>
                <a:tab algn="l" pos="88488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575480" y="7074000"/>
            <a:ext cx="6201360" cy="953028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2949480"/>
                <a:tab algn="l" pos="5899320"/>
                <a:tab algn="l" pos="88488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087520" y="7074000"/>
            <a:ext cx="6201360" cy="953028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2949480"/>
                <a:tab algn="l" pos="5899320"/>
                <a:tab algn="l" pos="88488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3800" y="17510040"/>
            <a:ext cx="6201360" cy="953028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2949480"/>
                <a:tab algn="l" pos="5899320"/>
                <a:tab algn="l" pos="88488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7575480" y="17510040"/>
            <a:ext cx="6201360" cy="953028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2949480"/>
                <a:tab algn="l" pos="5899320"/>
                <a:tab algn="l" pos="88488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4087520" y="17510040"/>
            <a:ext cx="6201360" cy="953028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2949480"/>
                <a:tab algn="l" pos="5899320"/>
                <a:tab algn="l" pos="88488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B273-4B56-4ED0-BAD0-F53CD2E7D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3800" y="1217160"/>
            <a:ext cx="19259280" cy="504684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ctr">
            <a:noAutofit/>
          </a:bodyPr>
          <a:p>
            <a:pPr indent="0" algn="ctr">
              <a:buNone/>
              <a:tabLst>
                <a:tab algn="l" pos="0"/>
                <a:tab algn="l" pos="2949480"/>
                <a:tab algn="l" pos="5899320"/>
                <a:tab algn="l" pos="8848800"/>
              </a:tabLst>
            </a:pPr>
            <a:endParaRPr b="0" lang="en-US" sz="1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3800" y="7074000"/>
            <a:ext cx="19259280" cy="199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01"/>
              </a:spcBef>
              <a:buNone/>
              <a:tabLst>
                <a:tab algn="l" pos="0"/>
                <a:tab algn="l" pos="2949480"/>
                <a:tab algn="l" pos="5899320"/>
                <a:tab algn="l" pos="88488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531F-8B72-4A32-875D-200E2E891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3800" y="1217160"/>
            <a:ext cx="19259280" cy="504684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ctr">
            <a:noAutofit/>
          </a:bodyPr>
          <a:p>
            <a:pPr indent="0" algn="ctr">
              <a:buNone/>
              <a:tabLst>
                <a:tab algn="l" pos="0"/>
                <a:tab algn="l" pos="2949480"/>
                <a:tab algn="l" pos="5899320"/>
                <a:tab algn="l" pos="8848800"/>
              </a:tabLst>
            </a:pPr>
            <a:endParaRPr b="0" lang="en-US" sz="1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3800" y="7074000"/>
            <a:ext cx="19259280" cy="199800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2949480"/>
                <a:tab algn="l" pos="5899320"/>
                <a:tab algn="l" pos="88488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3393-597D-4AC1-ABFD-84F5450DF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3800" y="1217160"/>
            <a:ext cx="19259280" cy="504684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ctr">
            <a:noAutofit/>
          </a:bodyPr>
          <a:p>
            <a:pPr indent="0" algn="ctr">
              <a:buNone/>
              <a:tabLst>
                <a:tab algn="l" pos="0"/>
                <a:tab algn="l" pos="2949480"/>
                <a:tab algn="l" pos="5899320"/>
                <a:tab algn="l" pos="8848800"/>
              </a:tabLst>
            </a:pPr>
            <a:endParaRPr b="0" lang="en-US" sz="1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3800" y="7074000"/>
            <a:ext cx="9398520" cy="199800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2949480"/>
                <a:tab algn="l" pos="5899320"/>
                <a:tab algn="l" pos="88488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0932480" y="7074000"/>
            <a:ext cx="9398520" cy="199800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2949480"/>
                <a:tab algn="l" pos="5899320"/>
                <a:tab algn="l" pos="88488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8ECC-F30B-4860-979B-586542CED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3800" y="1217160"/>
            <a:ext cx="19259280" cy="504684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ctr">
            <a:noAutofit/>
          </a:bodyPr>
          <a:p>
            <a:pPr indent="0" algn="ctr">
              <a:buNone/>
              <a:tabLst>
                <a:tab algn="l" pos="0"/>
                <a:tab algn="l" pos="2949480"/>
                <a:tab algn="l" pos="5899320"/>
                <a:tab algn="l" pos="8848800"/>
              </a:tabLst>
            </a:pPr>
            <a:endParaRPr b="0" lang="en-US" sz="1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9011-C39D-4812-985A-DEFB382B2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3800" y="1217160"/>
            <a:ext cx="19259280" cy="233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01"/>
              </a:spcBef>
              <a:tabLst>
                <a:tab algn="l" pos="0"/>
                <a:tab algn="l" pos="2949480"/>
                <a:tab algn="l" pos="5899320"/>
                <a:tab algn="l" pos="88488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59E4-B0B2-4653-8D30-0E23C67DE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3800" y="1217160"/>
            <a:ext cx="19259280" cy="504684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ctr">
            <a:noAutofit/>
          </a:bodyPr>
          <a:p>
            <a:pPr indent="0" algn="ctr">
              <a:buNone/>
              <a:tabLst>
                <a:tab algn="l" pos="0"/>
                <a:tab algn="l" pos="2949480"/>
                <a:tab algn="l" pos="5899320"/>
                <a:tab algn="l" pos="8848800"/>
              </a:tabLst>
            </a:pPr>
            <a:endParaRPr b="0" lang="en-US" sz="1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3800" y="7074000"/>
            <a:ext cx="9398520" cy="953028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2949480"/>
                <a:tab algn="l" pos="5899320"/>
                <a:tab algn="l" pos="88488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0932480" y="7074000"/>
            <a:ext cx="9398520" cy="199800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2949480"/>
                <a:tab algn="l" pos="5899320"/>
                <a:tab algn="l" pos="88488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3800" y="17510040"/>
            <a:ext cx="9398520" cy="953028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2949480"/>
                <a:tab algn="l" pos="5899320"/>
                <a:tab algn="l" pos="88488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C3DD-16C8-43EC-98D9-CFDF2A3A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3800" y="1217160"/>
            <a:ext cx="19259280" cy="504684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ctr">
            <a:noAutofit/>
          </a:bodyPr>
          <a:p>
            <a:pPr indent="0" algn="ctr">
              <a:buNone/>
              <a:tabLst>
                <a:tab algn="l" pos="0"/>
                <a:tab algn="l" pos="2949480"/>
                <a:tab algn="l" pos="5899320"/>
                <a:tab algn="l" pos="8848800"/>
              </a:tabLst>
            </a:pPr>
            <a:endParaRPr b="0" lang="en-US" sz="1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3800" y="7074000"/>
            <a:ext cx="9398520" cy="199800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2949480"/>
                <a:tab algn="l" pos="5899320"/>
                <a:tab algn="l" pos="88488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0932480" y="7074000"/>
            <a:ext cx="9398520" cy="953028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2949480"/>
                <a:tab algn="l" pos="5899320"/>
                <a:tab algn="l" pos="88488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932480" y="17510040"/>
            <a:ext cx="9398520" cy="953028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2949480"/>
                <a:tab algn="l" pos="5899320"/>
                <a:tab algn="l" pos="88488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D4A6-CD22-4552-8530-9A27842E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3800" y="1217160"/>
            <a:ext cx="19259280" cy="504684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ctr">
            <a:noAutofit/>
          </a:bodyPr>
          <a:p>
            <a:pPr indent="0" algn="ctr">
              <a:buNone/>
              <a:tabLst>
                <a:tab algn="l" pos="0"/>
                <a:tab algn="l" pos="2949480"/>
                <a:tab algn="l" pos="5899320"/>
                <a:tab algn="l" pos="8848800"/>
              </a:tabLst>
            </a:pPr>
            <a:endParaRPr b="0" lang="en-US" sz="1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3800" y="7074000"/>
            <a:ext cx="9398520" cy="953028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2949480"/>
                <a:tab algn="l" pos="5899320"/>
                <a:tab algn="l" pos="88488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0932480" y="7074000"/>
            <a:ext cx="9398520" cy="953028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2949480"/>
                <a:tab algn="l" pos="5899320"/>
                <a:tab algn="l" pos="88488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3800" y="17510040"/>
            <a:ext cx="19259280" cy="953028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2949480"/>
                <a:tab algn="l" pos="5899320"/>
                <a:tab algn="l" pos="88488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5503-EBB8-403C-BE3E-9497C478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3800" y="1217160"/>
            <a:ext cx="19259280" cy="504684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ctr">
            <a:noAutofit/>
          </a:bodyPr>
          <a:p>
            <a:pPr indent="0" algn="ctr">
              <a:buNone/>
              <a:tabLst>
                <a:tab algn="l" pos="0"/>
                <a:tab algn="l" pos="2949480"/>
                <a:tab algn="l" pos="5899320"/>
                <a:tab algn="l" pos="8848800"/>
              </a:tabLst>
            </a:pPr>
            <a:r>
              <a:rPr b="0" lang="en-US" sz="13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3800" y="7074000"/>
            <a:ext cx="19259280" cy="199800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marL="1106640" indent="-110664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2949480"/>
                <a:tab algn="l" pos="5899320"/>
                <a:tab algn="l" pos="88488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1" marL="2403360" indent="-92052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2949480"/>
                <a:tab algn="l" pos="5899320"/>
                <a:tab algn="l" pos="88488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2" marL="3681360" indent="-73188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2949480"/>
                <a:tab algn="l" pos="5899320"/>
                <a:tab algn="l" pos="88488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3" marL="5164200" indent="-73188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2949480"/>
                <a:tab algn="l" pos="5899320"/>
                <a:tab algn="l" pos="88488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4" marL="6647040" indent="-7477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2949480"/>
                <a:tab algn="l" pos="5899320"/>
                <a:tab algn="l" pos="88488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5" marL="6647040" indent="-7477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2949480"/>
                <a:tab algn="l" pos="5899320"/>
                <a:tab algn="l" pos="88488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6" marL="6647040" indent="-7477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2949480"/>
                <a:tab algn="l" pos="5899320"/>
                <a:tab algn="l" pos="88488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3800" y="27581040"/>
            <a:ext cx="4991040" cy="209844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305840" y="27581040"/>
            <a:ext cx="6775200" cy="209844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332040" y="27581040"/>
            <a:ext cx="4991040" cy="209844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Autofit/>
          </a:bodyPr>
          <a:lstStyle>
            <a:lvl1pPr indent="0" algn="r">
              <a:buNone/>
              <a:tabLst>
                <a:tab algn="l" pos="0"/>
                <a:tab algn="l" pos="2949480"/>
                <a:tab algn="l" pos="5899320"/>
                <a:tab algn="l" pos="8848800"/>
              </a:tabLst>
              <a:defRPr b="0" lang="en-US" sz="5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2949480"/>
                <a:tab algn="l" pos="5899320"/>
                <a:tab algn="l" pos="8848800"/>
              </a:tabLst>
            </a:pPr>
            <a:fld id="{13C5C05A-8B73-4B34-8B24-47AD7780D4E0}" type="slidenum">
              <a:rPr b="0" lang="en-US" sz="5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グループ化 6"/>
          <p:cNvGrpSpPr/>
          <p:nvPr/>
        </p:nvGrpSpPr>
        <p:grpSpPr>
          <a:xfrm>
            <a:off x="21991680" y="928800"/>
            <a:ext cx="12082320" cy="14101560"/>
            <a:chOff x="21991680" y="928800"/>
            <a:chExt cx="12082320" cy="14101560"/>
          </a:xfrm>
        </p:grpSpPr>
        <p:sp>
          <p:nvSpPr>
            <p:cNvPr id="49" name="テキスト ボックス 2"/>
            <p:cNvSpPr/>
            <p:nvPr/>
          </p:nvSpPr>
          <p:spPr>
            <a:xfrm>
              <a:off x="21991680" y="928800"/>
              <a:ext cx="1208232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6000" spc="-1" strike="noStrike">
                  <a:solidFill>
                    <a:srgbClr val="000000"/>
                  </a:solidFill>
                  <a:latin typeface="ＭＳ Ｐゴシック"/>
                </a:rPr>
                <a:t>テンプレート：</a:t>
              </a:r>
              <a:r>
                <a:rPr b="1" lang="en-US" sz="6000" spc="-1" strike="noStrike">
                  <a:solidFill>
                    <a:srgbClr val="000000"/>
                  </a:solidFill>
                  <a:latin typeface="ＭＳ Ｐゴシック"/>
                </a:rPr>
                <a:t>A1</a:t>
              </a:r>
              <a:r>
                <a:rPr b="1" lang="ja-JP" sz="6000" spc="-1" strike="noStrike">
                  <a:solidFill>
                    <a:srgbClr val="000000"/>
                  </a:solidFill>
                  <a:latin typeface="ＭＳ Ｐゴシック"/>
                </a:rPr>
                <a:t>（縦向き）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テキスト ボックス 3"/>
            <p:cNvSpPr/>
            <p:nvPr/>
          </p:nvSpPr>
          <p:spPr>
            <a:xfrm>
              <a:off x="22936680" y="2622240"/>
              <a:ext cx="10191960" cy="2366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360000" bIns="36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ページ設定</a:t>
              </a:r>
              <a:r>
                <a:rPr b="1" lang="en-US" sz="5400" spc="-1" strike="noStrike" baseline="40000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5400" spc="-1" strike="noStrike" baseline="40000">
                  <a:solidFill>
                    <a:srgbClr val="000000"/>
                  </a:solidFill>
                  <a:latin typeface="ＭＳ Ｐゴシック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幅 </a:t>
              </a:r>
              <a:r>
                <a:rPr b="0" lang="en-US" sz="5400" spc="-1" strike="noStrike">
                  <a:solidFill>
                    <a:srgbClr val="000000"/>
                  </a:solidFill>
                  <a:latin typeface="ＭＳ Ｐゴシック"/>
                </a:rPr>
                <a:t>594mm</a:t>
              </a: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en-US" sz="5400" spc="-1" strike="noStrike">
                  <a:solidFill>
                    <a:srgbClr val="000000"/>
                  </a:solidFill>
                  <a:latin typeface="ＭＳ Ｐゴシック"/>
                </a:rPr>
                <a:t>×</a:t>
              </a: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高さ </a:t>
              </a:r>
              <a:r>
                <a:rPr b="0" lang="en-US" sz="5400" spc="-1" strike="noStrike">
                  <a:solidFill>
                    <a:srgbClr val="000000"/>
                  </a:solidFill>
                  <a:latin typeface="ＭＳ Ｐゴシック"/>
                </a:rPr>
                <a:t>841mm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テキスト ボックス 4"/>
            <p:cNvSpPr/>
            <p:nvPr/>
          </p:nvSpPr>
          <p:spPr>
            <a:xfrm>
              <a:off x="22739760" y="5440320"/>
              <a:ext cx="10586160" cy="365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4800" spc="-1" strike="noStrike">
                  <a:solidFill>
                    <a:srgbClr val="000000"/>
                  </a:solidFill>
                  <a:latin typeface="ＭＳ Ｐゴシック"/>
                </a:rPr>
                <a:t>1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ＭＳ Ｐゴシック"/>
                </a:rPr>
                <a:t>PowerPoint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のバージョンによっては数値に若干誤差が生じている場合がありますが、そのまま作成いただいて問題ございません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テキスト ボックス 6"/>
            <p:cNvSpPr/>
            <p:nvPr/>
          </p:nvSpPr>
          <p:spPr>
            <a:xfrm>
              <a:off x="22737240" y="9949680"/>
              <a:ext cx="10591200" cy="50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4800" spc="-1" strike="noStrike">
                  <a:solidFill>
                    <a:srgbClr val="ff0000"/>
                  </a:solidFill>
                  <a:latin typeface="ＭＳ Ｐゴシック"/>
                </a:rPr>
                <a:t>データ作成の注意事項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仕上がりギリギリまで文字・写真・絵柄が入る場合は、用紙の白が出ないように若干拡大して印刷します。そのため切れては困る文字や絵柄は、仕上がりより</a:t>
              </a:r>
              <a:r>
                <a:rPr b="0" lang="en-US" sz="4800" spc="-1" strike="noStrike">
                  <a:solidFill>
                    <a:srgbClr val="000000"/>
                  </a:solidFill>
                  <a:latin typeface="ＭＳ Ｐゴシック"/>
                </a:rPr>
                <a:t>3mm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内側に配置してください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05:25:09Z</dcterms:created>
  <dc:creator>販促応援.com</dc:creator>
  <dc:description/>
  <dc:language>en-US</dc:language>
  <cp:lastModifiedBy>hanami</cp:lastModifiedBy>
  <dcterms:modified xsi:type="dcterms:W3CDTF">2015-09-25T02:27:44Z</dcterms:modified>
  <cp:revision>8</cp:revision>
  <dc:subject/>
  <dc:title>スライド 1</dc:title>
</cp:coreProperties>
</file>