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43160" y="365040"/>
            <a:ext cx="45720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13EF-0D1F-4058-9D72-B2B82E9FE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A2C6-883A-4B09-93E4-2B042696D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43160" y="365040"/>
            <a:ext cx="45720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6FC-FDAA-43A7-890B-B5E40C3F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0086840"/>
            <a:ext cx="97344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24977520"/>
            <a:ext cx="97344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C32-99CE-49B5-A8A4-69C0FB68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08684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1680" y="1008684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2497752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1680" y="2497752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D3C-1F07-4CE1-BB7C-5D49E07D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0086840"/>
            <a:ext cx="31341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4640" y="10086840"/>
            <a:ext cx="31341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6120" y="10086840"/>
            <a:ext cx="31341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24977520"/>
            <a:ext cx="31341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4640" y="24977520"/>
            <a:ext cx="31341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6120" y="24977520"/>
            <a:ext cx="31341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36B-D560-4BDA-A627-BE9DEE65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0086840"/>
            <a:ext cx="9734400" cy="28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33C-82A2-4A58-A2DC-6080CEE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0086840"/>
            <a:ext cx="973440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CD1-1B7C-4C74-84F4-FE52D2AF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0086840"/>
            <a:ext cx="475020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1680" y="10086840"/>
            <a:ext cx="475020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0BA-6122-4951-B8B0-74E76BEE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31B-E305-40C9-BCA4-F760C273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743120"/>
            <a:ext cx="97344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83C-9EF7-4F5C-B2A3-F2670E5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008684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1680" y="10086840"/>
            <a:ext cx="475020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2497752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995-F1DE-4A89-887F-5A713D99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0086840"/>
            <a:ext cx="475020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1680" y="1008684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1680" y="2497752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B9B-B29B-451D-832C-DD1BFE92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008684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1680" y="10086840"/>
            <a:ext cx="47502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24977520"/>
            <a:ext cx="973440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138-94FF-4C90-BD47-631487D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743120"/>
            <a:ext cx="973440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0086840"/>
            <a:ext cx="973440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39357360"/>
            <a:ext cx="2523960" cy="29779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760" y="39357360"/>
            <a:ext cx="3409920" cy="29779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3600" y="39357360"/>
            <a:ext cx="2523960" cy="29779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4EB11F14-73A8-40B1-BC3B-91B8E26962F4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1422080" y="2374920"/>
            <a:ext cx="10571040" cy="21726360"/>
            <a:chOff x="11422080" y="2374920"/>
            <a:chExt cx="10571040" cy="217263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1422080" y="2374920"/>
              <a:ext cx="105710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300x1200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縦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12200760" y="4759560"/>
              <a:ext cx="917892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3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2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2200760" y="7952400"/>
              <a:ext cx="8724960" cy="85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12200760" y="12263760"/>
              <a:ext cx="8728920" cy="118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6:23:32Z</dcterms:modified>
  <cp:revision>15</cp:revision>
  <dc:subject/>
  <dc:title>スライド 1</dc:title>
</cp:coreProperties>
</file>