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604288" cy="216042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8FA-2014-43A8-B3B4-5A8FB91F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7C3-D4E6-40F8-806A-8A257DD631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AC4-4CA3-4C01-8396-A105A68F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194659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12490560"/>
            <a:ext cx="194659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361-2FB4-4C97-B7C3-5560AE9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300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1249056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3000" y="1249056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9F3-7D4A-4E6C-B92A-FDEA2958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0360" y="504684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31880" y="504684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1249056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0360" y="1249056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31880" y="12490560"/>
            <a:ext cx="626796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8CC-16CE-4E33-BBC8-65335123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5046840"/>
            <a:ext cx="19465920" cy="142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474-B19C-4367-8B2F-EC0019DA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194659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333-13F4-408B-8B3A-5043D3D8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94993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3000" y="5046840"/>
            <a:ext cx="94993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173-0347-4C4B-A1B8-44332449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64E-ADF0-4C26-B8C3-B576053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870120"/>
            <a:ext cx="19465920" cy="167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7FD-6E4F-42BE-B4A5-3D9FD937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3000" y="5046840"/>
            <a:ext cx="94993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1249056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3F3-399C-4752-A3EB-7EAE263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94993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300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3000" y="1249056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A93-0302-4964-B6BA-B8ACF00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3000" y="5046840"/>
            <a:ext cx="94993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12490560"/>
            <a:ext cx="19465920" cy="679752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indent="0">
              <a:spcBef>
                <a:spcPts val="2126"/>
              </a:spcBef>
              <a:buNone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E98-CF42-4137-A524-436E854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870120"/>
            <a:ext cx="19465920" cy="360504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ctr">
            <a:noAutofit/>
          </a:bodyPr>
          <a:p>
            <a:pPr indent="0" algn="ct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5046840"/>
            <a:ext cx="19465920" cy="142509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rmAutofit/>
          </a:bodyPr>
          <a:p>
            <a:pPr marL="903240" indent="-903240"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1" marL="1963800" indent="-746280"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2" marL="3002040" indent="-600120"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3" marL="4219560" indent="-601560">
              <a:spcBef>
                <a:spcPts val="2126"/>
              </a:spcBef>
              <a:buClr>
                <a:srgbClr val="000000"/>
              </a:buClr>
              <a:buFont typeface="Arial"/>
              <a:buChar char="–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4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5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lvl="6" marL="5425920" indent="-612720">
              <a:spcBef>
                <a:spcPts val="2126"/>
              </a:spcBef>
              <a:buClr>
                <a:srgbClr val="000000"/>
              </a:buClr>
              <a:buFont typeface="Arial"/>
              <a:buChar char="»"/>
              <a:tabLst>
                <a:tab algn="l" pos="2401920"/>
                <a:tab algn="l" pos="4803840"/>
                <a:tab algn="l" pos="7205760"/>
                <a:tab algn="l" pos="960768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19678320"/>
            <a:ext cx="5046480" cy="14907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9360" y="19678320"/>
            <a:ext cx="6823080" cy="14907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7200" y="19678320"/>
            <a:ext cx="5046840" cy="1490760"/>
          </a:xfrm>
          <a:prstGeom prst="rect">
            <a:avLst/>
          </a:prstGeom>
          <a:noFill/>
          <a:ln w="0">
            <a:noFill/>
          </a:ln>
        </p:spPr>
        <p:txBody>
          <a:bodyPr lIns="240840" rIns="240840" tIns="120600" bIns="120600" anchor="t">
            <a:noAutofit/>
          </a:bodyPr>
          <a:lstStyle>
            <a:lvl1pPr indent="0" algn="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  <a:defRPr b="0" lang="en-US" sz="3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01920"/>
                <a:tab algn="l" pos="4803840"/>
                <a:tab algn="l" pos="7205760"/>
                <a:tab algn="l" pos="9607680"/>
              </a:tabLst>
            </a:pPr>
            <a:fld id="{A006A986-5AE8-43EE-A73E-15D3ED4C1F5B}" type="slidenum">
              <a:rPr b="0" lang="en-US" sz="3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4072840" y="1187280"/>
            <a:ext cx="14941440" cy="16397280"/>
            <a:chOff x="24072840" y="1187280"/>
            <a:chExt cx="14941440" cy="163972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4354000" y="1187280"/>
              <a:ext cx="14378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8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8000" spc="-1" strike="noStrike">
                  <a:solidFill>
                    <a:srgbClr val="000000"/>
                  </a:solidFill>
                  <a:latin typeface="ＭＳ Ｐゴシック"/>
                </a:rPr>
                <a:t>600x60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4354000" y="3356280"/>
              <a:ext cx="14378760" cy="291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72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72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72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72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4076080" y="7413840"/>
              <a:ext cx="14934960" cy="46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6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4072840" y="12206160"/>
              <a:ext cx="14941440" cy="53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4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64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64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47:34Z</dcterms:modified>
  <cp:revision>16</cp:revision>
  <dc:subject/>
  <dc:title>スライド 1</dc:title>
</cp:coreProperties>
</file>