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162036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255960" y="365040"/>
            <a:ext cx="36543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0F6-CC31-4BFD-9142-0E5DFF2F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AE30-22AC-440D-BA51-8628B5B79A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255600" y="365040"/>
            <a:ext cx="36543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4A8-C9AE-4F1B-9BD8-5AD497DD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2919888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3440" y="9367560"/>
            <a:ext cx="2919888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FAF-9567-4BBF-91C5-BEFBDEF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5040" y="378468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936756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5040" y="936756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04A-F9B4-4211-95FD-B32DFC77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940176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5720" y="3784680"/>
            <a:ext cx="940176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8000" y="3784680"/>
            <a:ext cx="940176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3440" y="9367560"/>
            <a:ext cx="940176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5720" y="9367560"/>
            <a:ext cx="940176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8000" y="9367560"/>
            <a:ext cx="940176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55B-3E46-4C0B-BAED-0BD32B6C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3440" y="3784680"/>
            <a:ext cx="29198880" cy="106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4A8-963D-4874-8BFD-2F66120B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2919888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362-DEB3-487D-B56F-843AC5EC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1424880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5040" y="3784680"/>
            <a:ext cx="1424880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FA1-83EC-495C-9BE4-D8F6636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FB5-E6D9-48FE-93FF-A169C838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3440" y="652320"/>
            <a:ext cx="29198880" cy="125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FB5-2661-48F1-AA2C-12E3761D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5040" y="3784680"/>
            <a:ext cx="1424880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3440" y="936756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931-14E5-4C96-8733-8E6362F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1424880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5040" y="378468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5040" y="936756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161-3060-4C02-9C2C-A350532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3440" y="378468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5040" y="3784680"/>
            <a:ext cx="1424880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3440" y="9367560"/>
            <a:ext cx="2919888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CB0-0D81-44FD-BD6F-5AB0F07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3440" y="652320"/>
            <a:ext cx="2919888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3440" y="3784680"/>
            <a:ext cx="2919888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3080" y="14758560"/>
            <a:ext cx="7569000" cy="1117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85480" y="14758560"/>
            <a:ext cx="10234800" cy="1117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31520" y="14758560"/>
            <a:ext cx="7570800" cy="1117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87C67C03-91AA-40BA-8EF9-4519EB593F64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539720" y="16929000"/>
            <a:ext cx="29613240" cy="11311200"/>
            <a:chOff x="1539720" y="16929000"/>
            <a:chExt cx="29613240" cy="1131120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097360" y="16929000"/>
              <a:ext cx="28497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900x450/1800x900</a:t>
              </a:r>
              <a:r>
                <a:rPr b="1" lang="en-US" sz="6000" spc="-1" strike="noStrike" baseline="30000">
                  <a:solidFill>
                    <a:srgbClr val="000000"/>
                  </a:solidFill>
                  <a:latin typeface="ＭＳ Ｐゴシック"/>
                </a:rPr>
                <a:t>※2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097360" y="18160560"/>
              <a:ext cx="28497600" cy="1543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1" lang="ja-JP" sz="5400" spc="-1" strike="noStrike" baseline="40000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45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546200" y="20363760"/>
              <a:ext cx="29600280" cy="31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サイズ制限上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1800x900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原寸は設定できないため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50%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縮小のサイズに設定しています。印刷時に拡大します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539720" y="26425800"/>
              <a:ext cx="2961324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53:49Z</dcterms:modified>
  <cp:revision>18</cp:revision>
  <dc:subject/>
  <dc:title>スライド 1</dc:title>
</cp:coreProperties>
</file>