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543588" cy="13103225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9000" y="365040"/>
            <a:ext cx="258444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4B3D-8077-4EA7-A07A-4712A8728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7E94-D9C1-4F9C-A224-DAC42AC452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79360" y="365040"/>
            <a:ext cx="258444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AC36-514A-4E08-8294-B7DD6B30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5480" y="528480"/>
            <a:ext cx="16710120" cy="21844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5480" y="3058920"/>
            <a:ext cx="16710120" cy="41245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5480" y="7575840"/>
            <a:ext cx="16710120" cy="41245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CABF-00DE-4648-95CC-E3956D76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5480" y="528480"/>
            <a:ext cx="16710120" cy="21844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5480" y="3058920"/>
            <a:ext cx="8154360" cy="41245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478080" y="3058920"/>
            <a:ext cx="8154360" cy="41245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5480" y="7575840"/>
            <a:ext cx="8154360" cy="41245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478080" y="7575840"/>
            <a:ext cx="8154360" cy="41245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44B-4E48-4EF5-80CC-F3727044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5480" y="528480"/>
            <a:ext cx="16710120" cy="21844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5480" y="3058920"/>
            <a:ext cx="5380560" cy="41245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565320" y="3058920"/>
            <a:ext cx="5380560" cy="41245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215520" y="3058920"/>
            <a:ext cx="5380560" cy="41245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5480" y="7575840"/>
            <a:ext cx="5380560" cy="41245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565320" y="7575840"/>
            <a:ext cx="5380560" cy="41245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215520" y="7575840"/>
            <a:ext cx="5380560" cy="41245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31F8-917F-411D-94A4-B22936D9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5480" y="528480"/>
            <a:ext cx="16710120" cy="21844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5480" y="3058920"/>
            <a:ext cx="16710120" cy="86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6B8-C8E9-4B4F-9A81-B0E87563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5480" y="528480"/>
            <a:ext cx="16710120" cy="21844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5480" y="3058920"/>
            <a:ext cx="16710120" cy="86468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72C-DBEC-4F97-98F8-6F3EBC5C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5480" y="528480"/>
            <a:ext cx="16710120" cy="21844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5480" y="3058920"/>
            <a:ext cx="8154360" cy="86468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478080" y="3058920"/>
            <a:ext cx="8154360" cy="86468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9B2-0C96-427C-A616-AA55B4FE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5480" y="528480"/>
            <a:ext cx="16710120" cy="21844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6CDE-B9B9-4A40-A59D-75F40C14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5480" y="528480"/>
            <a:ext cx="16710120" cy="10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F38-A3EB-437D-AC55-973DF8C2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5480" y="528480"/>
            <a:ext cx="16710120" cy="21844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5480" y="3058920"/>
            <a:ext cx="8154360" cy="41245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478080" y="3058920"/>
            <a:ext cx="8154360" cy="86468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5480" y="7575840"/>
            <a:ext cx="8154360" cy="41245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2FAC-02C8-441C-8EC1-CD5C04B6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5480" y="528480"/>
            <a:ext cx="16710120" cy="21844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5480" y="3058920"/>
            <a:ext cx="8154360" cy="86468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478080" y="3058920"/>
            <a:ext cx="8154360" cy="41245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78080" y="7575840"/>
            <a:ext cx="8154360" cy="41245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364F-9443-4345-9820-8EAA15DD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5480" y="528480"/>
            <a:ext cx="16710120" cy="21844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5480" y="3058920"/>
            <a:ext cx="8154360" cy="41245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478080" y="3058920"/>
            <a:ext cx="8154360" cy="41245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5480" y="7575840"/>
            <a:ext cx="16710120" cy="41245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864C-B9F8-4E48-AA22-056B10D0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5480" y="528480"/>
            <a:ext cx="16710120" cy="21844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5480" y="3058920"/>
            <a:ext cx="16710120" cy="86468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marL="677880" indent="-6778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73120" indent="-5601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52520" indent="-45072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165480" indent="-45252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5480" y="11937600"/>
            <a:ext cx="4334040" cy="9032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343200" y="11937600"/>
            <a:ext cx="5854680" cy="9032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292280" y="11937600"/>
            <a:ext cx="4333680" cy="9032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lstStyle>
            <a:lvl1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9915862A-2B44-479D-A0A1-39BA5A84A219}" type="slidenum">
              <a:rPr b="0" lang="en-US" sz="2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18730800" y="209520"/>
            <a:ext cx="12080880" cy="14100120"/>
            <a:chOff x="18730800" y="209520"/>
            <a:chExt cx="12080880" cy="1410012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18730800" y="209520"/>
              <a:ext cx="1208088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B3</a:t>
              </a: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（横向き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19675800" y="1902600"/>
              <a:ext cx="10190880" cy="236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515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364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19478520" y="4720320"/>
              <a:ext cx="10585080" cy="36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19476360" y="9229680"/>
              <a:ext cx="10589760" cy="50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3:04:11Z</dcterms:modified>
  <cp:revision>13</cp:revision>
  <dc:subject/>
  <dc:title>スライド 1</dc:title>
</cp:coreProperties>
</file>