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76600" cy="46085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365040"/>
            <a:ext cx="12985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BB98-5B26-4784-9422-81365104E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A3AC-090D-4E90-A40C-C4CCF6EADF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2320" y="365040"/>
            <a:ext cx="129852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BAE-D7C8-4EE0-952E-8E7B2E39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00" y="1076040"/>
            <a:ext cx="2952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00" y="2665080"/>
            <a:ext cx="2952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D54-3993-4C56-9E65-C412F827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00" y="107604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5080" y="107604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00" y="266508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75080" y="266508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AF3-E548-4C7B-984D-CC513E8C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00" y="1076040"/>
            <a:ext cx="95040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0280" y="1076040"/>
            <a:ext cx="95040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58560" y="1076040"/>
            <a:ext cx="95040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00" y="2665080"/>
            <a:ext cx="95040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0280" y="2665080"/>
            <a:ext cx="95040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58560" y="2665080"/>
            <a:ext cx="95040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554-340D-44B5-B643-77B0C7E4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00" y="1076040"/>
            <a:ext cx="29527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52D-955A-4326-9AF1-9C385DD6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00" y="1076040"/>
            <a:ext cx="2952720" cy="3041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75D-3C17-4F7F-B909-A29D6556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00" y="1076040"/>
            <a:ext cx="1440720" cy="3041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75080" y="1076040"/>
            <a:ext cx="1440720" cy="3041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6BC-942C-425F-A818-98EAD880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4AD-F08A-43EE-BD9E-80017469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00" y="185760"/>
            <a:ext cx="295272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4DF-3D12-4248-BF4D-156FAA95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00" y="107604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75080" y="1076040"/>
            <a:ext cx="1440720" cy="3041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00" y="266508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428-9D30-49B6-86BB-70598EC2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00" y="1076040"/>
            <a:ext cx="1440720" cy="3041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75080" y="107604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5080" y="266508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616-04A3-4172-AD5F-5676D4B6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00" y="107604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75080" y="1076040"/>
            <a:ext cx="1440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00" y="2665080"/>
            <a:ext cx="2952720" cy="14508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655-26BE-4AA6-B0EF-917996F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00" y="185760"/>
            <a:ext cx="2952720" cy="7682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00" y="1076040"/>
            <a:ext cx="2952720" cy="3041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marL="16812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8280" indent="-141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-111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89120" indent="-114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14480" indent="-115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14480" indent="-115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14480" indent="-115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640" y="4196880"/>
            <a:ext cx="765000" cy="3193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320" y="4196880"/>
            <a:ext cx="1035000" cy="3193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49360" y="4196880"/>
            <a:ext cx="765360" cy="3193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952CD6-0C99-4CE1-B83B-CDE67E8BD87A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435480" y="81000"/>
            <a:ext cx="3897360" cy="3338640"/>
            <a:chOff x="3435480" y="81000"/>
            <a:chExt cx="389736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435480" y="8100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1800" spc="-1" strike="noStrike">
                  <a:solidFill>
                    <a:srgbClr val="000000"/>
                  </a:solidFill>
                  <a:latin typeface="ＭＳ Ｐゴシック"/>
                </a:rPr>
                <a:t>B7</a:t>
              </a: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3740400" y="46908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91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28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3676680" y="1401840"/>
              <a:ext cx="3414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3675960" y="2259000"/>
              <a:ext cx="34164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05:46Z</dcterms:modified>
  <cp:revision>16</cp:revision>
  <dc:subject/>
  <dc:title>スライド 1</dc:title>
</cp:coreProperties>
</file>