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D441-8F0E-4E0E-B0C2-0690E733D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8D6-7F6D-47B8-AAB8-A67003854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8C4-F097-4733-8B77-41CCCDED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963000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720" y="4371120"/>
            <a:ext cx="963000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F62-544C-4061-A00B-86CCD401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508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1720" y="437112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112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5D2-56F2-440C-A941-676B9EC3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31006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1765080"/>
            <a:ext cx="31006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3760" y="1765080"/>
            <a:ext cx="31006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720" y="4371120"/>
            <a:ext cx="31006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4371120"/>
            <a:ext cx="31006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3760" y="4371120"/>
            <a:ext cx="31006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50D-B198-42AC-81BF-3E6A53C5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1720" y="1765080"/>
            <a:ext cx="963000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A56-31DC-4300-971A-ABA9DC4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9630000" cy="4989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A0C-CF69-41FB-B91A-9513D137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4699080" cy="4989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5080"/>
            <a:ext cx="4699080" cy="4989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754-35B9-40CE-AD7A-E33B398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F35-50BB-4F02-B644-F88F6DD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1720" y="304560"/>
            <a:ext cx="96300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F4C-7B66-408F-A46B-F0E2367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5080"/>
            <a:ext cx="4699080" cy="4989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1720" y="437112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4F5-C239-40B3-99A4-CD94492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4699080" cy="4989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508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112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E74-754D-4AAA-8337-96E425D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1720" y="176508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5080"/>
            <a:ext cx="469908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1720" y="4371120"/>
            <a:ext cx="9630000" cy="237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94D-645B-48B7-A82A-F652B60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720" y="304560"/>
            <a:ext cx="963000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720" y="1765080"/>
            <a:ext cx="9630000" cy="4989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5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2602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602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347920" indent="-2635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347920" indent="-2635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347920" indent="-2635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1720" y="6887880"/>
            <a:ext cx="249408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7880"/>
            <a:ext cx="338760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7640" y="6887880"/>
            <a:ext cx="249408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94C9D7BA-D3F6-46B5-B62E-4A75A1B44F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0693440" y="184320"/>
            <a:ext cx="6761160" cy="4860720"/>
            <a:chOff x="10693440" y="184320"/>
            <a:chExt cx="6761160" cy="48607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0693440" y="184320"/>
              <a:ext cx="676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A4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1222280" y="857520"/>
              <a:ext cx="570348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97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10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1111760" y="1978200"/>
              <a:ext cx="59241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1110680" y="3465000"/>
              <a:ext cx="592668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49:31Z</dcterms:modified>
  <cp:revision>9</cp:revision>
  <dc:subject/>
  <dc:title>スライド 1</dc:title>
</cp:coreProperties>
</file>