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106918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A4C0-4AFE-4F98-B04E-38716212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8F1-FB19-4348-A71A-7474CE79B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A98-66C0-4021-B94D-E3D9E6BE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680868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6183000"/>
            <a:ext cx="680868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A9A-A6DD-46D8-887C-80DF247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96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618300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960" y="618300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0DE-230B-45E7-B6AB-E5454A75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040" y="249696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696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618300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040" y="618300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3000"/>
            <a:ext cx="21920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8D0-7565-4811-8522-2ED7F85E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2496960"/>
            <a:ext cx="6808680" cy="70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319-3831-4181-A39B-A914B88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680868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071-539A-4BEA-BE0B-D3FD9E5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332244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960" y="2496960"/>
            <a:ext cx="332244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4B4-D810-4BD4-B8A9-E5304DF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F09-E135-45F4-B860-122F5F9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430200"/>
            <a:ext cx="680868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753-0580-4D20-89FC-FE30322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960" y="2496960"/>
            <a:ext cx="332244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618300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020-4DBB-4AF4-B0C6-9C3BBA0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332244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96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960" y="618300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0F2-7F33-4E0C-89B3-51C1420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960" y="2496960"/>
            <a:ext cx="332244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6183000"/>
            <a:ext cx="6808680" cy="336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D37-90A1-4C09-A06E-75F713A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430200"/>
            <a:ext cx="6808680" cy="1782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2496960"/>
            <a:ext cx="6808680" cy="705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5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5840" y="9740520"/>
            <a:ext cx="1763640" cy="739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40520"/>
            <a:ext cx="2395440" cy="739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0880" y="9740520"/>
            <a:ext cx="1763640" cy="739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24AE5ACD-D05E-4D4F-9E94-25D331EF09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7701120" y="0"/>
            <a:ext cx="6761160" cy="4861080"/>
            <a:chOff x="7701120" y="0"/>
            <a:chExt cx="67611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7701120" y="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A4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8229960" y="67320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10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97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8119440" y="179388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8118360" y="328104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1:24Z</dcterms:modified>
  <cp:revision>8</cp:revision>
  <dc:subject/>
  <dc:title>スライド 1</dc:title>
</cp:coreProperties>
</file>