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779838" cy="5327650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365040"/>
            <a:ext cx="12956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DC0B-1792-44DF-B314-FB295B9DF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41C7-054D-459D-8F33-D1AF17C565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23760" y="365040"/>
            <a:ext cx="129564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1868-1B01-47BD-B765-051EBE83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6840" y="214200"/>
            <a:ext cx="3405240" cy="889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6840" y="1244520"/>
            <a:ext cx="3405240" cy="1677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6840" y="3081600"/>
            <a:ext cx="3405240" cy="1677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734-BA88-4824-8EF1-DF553819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6840" y="214200"/>
            <a:ext cx="3405240" cy="889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6840" y="1244520"/>
            <a:ext cx="1661400" cy="1677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31760" y="1244520"/>
            <a:ext cx="1661400" cy="1677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6840" y="3081600"/>
            <a:ext cx="1661400" cy="1677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31760" y="3081600"/>
            <a:ext cx="1661400" cy="1677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C9C-93ED-4E88-B23E-114ACA10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6840" y="214200"/>
            <a:ext cx="3405240" cy="889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6840" y="1244520"/>
            <a:ext cx="1096200" cy="1677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38120" y="1244520"/>
            <a:ext cx="1096200" cy="1677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89760" y="1244520"/>
            <a:ext cx="1096200" cy="1677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6840" y="3081600"/>
            <a:ext cx="1096200" cy="1677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38120" y="3081600"/>
            <a:ext cx="1096200" cy="1677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89760" y="3081600"/>
            <a:ext cx="1096200" cy="1677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4191-922E-46B1-AC3D-2952C288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6840" y="214200"/>
            <a:ext cx="3405240" cy="889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6840" y="1244520"/>
            <a:ext cx="3405240" cy="35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233F-48E6-42ED-BD7D-D873B045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6840" y="214200"/>
            <a:ext cx="3405240" cy="889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6840" y="1244520"/>
            <a:ext cx="3405240" cy="35164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3B2-A3B7-4D37-8B08-05320778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6840" y="214200"/>
            <a:ext cx="3405240" cy="889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6840" y="1244520"/>
            <a:ext cx="1661400" cy="35164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31760" y="1244520"/>
            <a:ext cx="1661400" cy="35164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4DEF-D086-4248-A005-2952366C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6840" y="214200"/>
            <a:ext cx="3405240" cy="889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098-1BDE-4073-B1E4-70F42C00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6840" y="214200"/>
            <a:ext cx="34052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F507-2BC7-469F-96D0-96F17F8E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6840" y="214200"/>
            <a:ext cx="3405240" cy="889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6840" y="1244520"/>
            <a:ext cx="1661400" cy="1677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31760" y="1244520"/>
            <a:ext cx="1661400" cy="35164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6840" y="3081600"/>
            <a:ext cx="1661400" cy="1677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9A2-C28B-487D-9A84-D5FF8FC4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6840" y="214200"/>
            <a:ext cx="3405240" cy="889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6840" y="1244520"/>
            <a:ext cx="1661400" cy="35164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31760" y="1244520"/>
            <a:ext cx="1661400" cy="1677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31760" y="3081600"/>
            <a:ext cx="1661400" cy="1677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7AD0-8AD1-48CF-A951-8E594E75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6840" y="214200"/>
            <a:ext cx="3405240" cy="889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6840" y="1244520"/>
            <a:ext cx="1661400" cy="1677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31760" y="1244520"/>
            <a:ext cx="1661400" cy="1677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6840" y="3081600"/>
            <a:ext cx="3405240" cy="1677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D12A-7D43-4821-BF78-43FBD69D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6840" y="214200"/>
            <a:ext cx="3405240" cy="889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6840" y="1244520"/>
            <a:ext cx="3405240" cy="35164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marL="195120" indent="-1951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1616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49440" indent="-1303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911160" indent="-129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171440" indent="-1317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171440" indent="-1317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171440" indent="-1317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7200" y="4854240"/>
            <a:ext cx="882720" cy="3682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2400" y="4854240"/>
            <a:ext cx="1195200" cy="3682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09720" y="4854240"/>
            <a:ext cx="882720" cy="3682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Autofit/>
          </a:bodyPr>
          <a:lstStyle>
            <a:lvl1pPr indent="0" algn="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fld id="{3EACD799-DB9B-4141-8006-BE6B630FFD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3780000" y="81000"/>
            <a:ext cx="3897000" cy="3338640"/>
            <a:chOff x="3780000" y="81000"/>
            <a:chExt cx="3897000" cy="333864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3780000" y="81000"/>
              <a:ext cx="389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A6</a:t>
              </a: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4084560" y="469080"/>
              <a:ext cx="3287520" cy="84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105mm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148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4021200" y="1401840"/>
              <a:ext cx="34146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4020480" y="2259000"/>
              <a:ext cx="34160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1:46:21Z</dcterms:modified>
  <cp:revision>10</cp:revision>
  <dc:subject/>
  <dc:title>スライド 1</dc:title>
</cp:coreProperties>
</file>