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608513" cy="655161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8800" y="365040"/>
            <a:ext cx="128592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71F4-27EC-4EA3-B260-D043030F8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7E26-BDAA-4897-88B7-CDE02F542A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28800" y="365040"/>
            <a:ext cx="128592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B70-8013-4A4E-911D-178F6778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7160" y="263520"/>
            <a:ext cx="4154400" cy="109368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7160" y="1530360"/>
            <a:ext cx="4154400" cy="20624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7160" y="3789000"/>
            <a:ext cx="4154400" cy="20624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700-B8DB-46E7-8E0A-74F62F34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7160" y="263520"/>
            <a:ext cx="4154400" cy="109368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7160" y="1530360"/>
            <a:ext cx="2027160" cy="20624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56200" y="1530360"/>
            <a:ext cx="2027160" cy="20624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7160" y="3789000"/>
            <a:ext cx="2027160" cy="20624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56200" y="3789000"/>
            <a:ext cx="2027160" cy="20624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2AC-8A3C-4D06-A631-23F01DC6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7160" y="263520"/>
            <a:ext cx="4154400" cy="109368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7160" y="1530360"/>
            <a:ext cx="1337400" cy="20624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31880" y="1530360"/>
            <a:ext cx="1337400" cy="20624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36600" y="1530360"/>
            <a:ext cx="1337400" cy="20624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7160" y="3789000"/>
            <a:ext cx="1337400" cy="20624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31880" y="3789000"/>
            <a:ext cx="1337400" cy="20624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036600" y="3789000"/>
            <a:ext cx="1337400" cy="20624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411-4797-4C15-851F-95ADC005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7160" y="263520"/>
            <a:ext cx="4154400" cy="109368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7160" y="1530360"/>
            <a:ext cx="41544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9FAF-6628-42CE-B774-EFD6B9AE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7160" y="263520"/>
            <a:ext cx="4154400" cy="109368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7160" y="1530360"/>
            <a:ext cx="4154400" cy="432432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D24-64A3-4450-B034-ADFF9570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7160" y="263520"/>
            <a:ext cx="4154400" cy="109368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7160" y="1530360"/>
            <a:ext cx="2027160" cy="432432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56200" y="1530360"/>
            <a:ext cx="2027160" cy="432432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A7D-6A5A-479A-B412-889A4858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7160" y="263520"/>
            <a:ext cx="4154400" cy="109368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A02-614E-4CD3-B549-255A2C92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7160" y="263520"/>
            <a:ext cx="4154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D05-D33F-48F8-8B6C-DD10F7E6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160" y="263520"/>
            <a:ext cx="4154400" cy="109368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7160" y="1530360"/>
            <a:ext cx="2027160" cy="20624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56200" y="1530360"/>
            <a:ext cx="2027160" cy="432432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7160" y="3789000"/>
            <a:ext cx="2027160" cy="20624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301-9045-4838-9A77-C0F99531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7160" y="263520"/>
            <a:ext cx="4154400" cy="109368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7160" y="1530360"/>
            <a:ext cx="2027160" cy="432432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56200" y="1530360"/>
            <a:ext cx="2027160" cy="20624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56200" y="3789000"/>
            <a:ext cx="2027160" cy="20624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420-4FD7-4AD0-A29E-E9E7A09A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7160" y="263520"/>
            <a:ext cx="4154400" cy="109368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7160" y="1530360"/>
            <a:ext cx="2027160" cy="20624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56200" y="1530360"/>
            <a:ext cx="2027160" cy="20624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7160" y="3789000"/>
            <a:ext cx="4154400" cy="20624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235-866F-420B-A085-D6C52501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7160" y="263520"/>
            <a:ext cx="4154400" cy="109368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160" y="1530360"/>
            <a:ext cx="4154400" cy="432432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marL="237960" indent="-237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98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93800" indent="-1587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16000" indent="-1602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1634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434960" indent="-1634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434960" indent="-1634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7160" y="5969160"/>
            <a:ext cx="1077840" cy="45216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76440" y="5969160"/>
            <a:ext cx="1455840" cy="45216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303720" y="5969160"/>
            <a:ext cx="1077840" cy="45216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Autofit/>
          </a:bodyPr>
          <a:lstStyle>
            <a:lvl1pPr indent="0" algn="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fld id="{4C2B3B42-83FC-40C4-81F2-11ECB94E5B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4743360" y="81000"/>
            <a:ext cx="3897360" cy="3338640"/>
            <a:chOff x="4743360" y="81000"/>
            <a:chExt cx="3897360" cy="33386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4743360" y="81000"/>
              <a:ext cx="389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B6</a:t>
              </a: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5048280" y="469080"/>
              <a:ext cx="3287520" cy="84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28mm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82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9"/>
            <p:cNvSpPr/>
            <p:nvPr/>
          </p:nvSpPr>
          <p:spPr>
            <a:xfrm>
              <a:off x="4984560" y="1401840"/>
              <a:ext cx="3414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4983840" y="2259000"/>
              <a:ext cx="341640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1:58:22Z</dcterms:modified>
  <cp:revision>15</cp:revision>
  <dc:subject/>
  <dc:title>スライド 1</dc:title>
</cp:coreProperties>
</file>