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551613" cy="46085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2520" y="365040"/>
            <a:ext cx="25974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0885-76AC-4187-8B2D-837DA24A4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6EBF-B134-4A7B-A5F1-6C806240B2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72880" y="365040"/>
            <a:ext cx="25974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26E-45FE-4BCA-A72F-29CC58FD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1840" y="185760"/>
            <a:ext cx="5908680" cy="7682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1840" y="1076040"/>
            <a:ext cx="590868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1840" y="2665080"/>
            <a:ext cx="590868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0B6-F9FA-44AB-BFA5-018B7DBB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1840" y="185760"/>
            <a:ext cx="5908680" cy="7682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1840" y="1076040"/>
            <a:ext cx="2883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49800" y="1076040"/>
            <a:ext cx="2883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1840" y="2665080"/>
            <a:ext cx="2883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49800" y="2665080"/>
            <a:ext cx="2883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99D-230B-476E-934A-891F03F2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1840" y="185760"/>
            <a:ext cx="5908680" cy="7682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1840" y="1076040"/>
            <a:ext cx="1902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19480" y="1076040"/>
            <a:ext cx="1902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7480" y="1076040"/>
            <a:ext cx="1902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1840" y="2665080"/>
            <a:ext cx="1902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19480" y="2665080"/>
            <a:ext cx="1902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17480" y="2665080"/>
            <a:ext cx="1902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8ED-9291-4E01-B931-B6E1DE60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1840" y="185760"/>
            <a:ext cx="5908680" cy="7682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1840" y="1076040"/>
            <a:ext cx="590868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730-C80D-4AA2-B36B-569900B0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1840" y="185760"/>
            <a:ext cx="5908680" cy="7682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1840" y="1076040"/>
            <a:ext cx="5908680" cy="3041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B73-3CEB-45B4-A400-6615A2F7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1840" y="185760"/>
            <a:ext cx="5908680" cy="7682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1840" y="1076040"/>
            <a:ext cx="2883240" cy="3041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49800" y="1076040"/>
            <a:ext cx="2883240" cy="3041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6E2-A2BA-479C-9C15-F48BC40C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1840" y="185760"/>
            <a:ext cx="5908680" cy="7682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8BC-3D79-49E3-9D3B-CE92C269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1840" y="185760"/>
            <a:ext cx="59086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ADC-A8DD-42D9-8232-9B19D0E7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1840" y="185760"/>
            <a:ext cx="5908680" cy="7682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1840" y="1076040"/>
            <a:ext cx="2883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49800" y="1076040"/>
            <a:ext cx="2883240" cy="3041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1840" y="2665080"/>
            <a:ext cx="2883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98F-9FB5-4A83-BA3D-AC776A30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1840" y="185760"/>
            <a:ext cx="5908680" cy="7682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1840" y="1076040"/>
            <a:ext cx="2883240" cy="3041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49800" y="1076040"/>
            <a:ext cx="2883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49800" y="2665080"/>
            <a:ext cx="2883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B30-C9A6-4966-9D67-84DDC695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1840" y="185760"/>
            <a:ext cx="5908680" cy="7682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1840" y="1076040"/>
            <a:ext cx="2883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49800" y="1076040"/>
            <a:ext cx="288324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1840" y="2665080"/>
            <a:ext cx="5908680" cy="14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38F-0795-41EC-B837-57B7962F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1840" y="185760"/>
            <a:ext cx="5908680" cy="7682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1840" y="1076040"/>
            <a:ext cx="5908680" cy="3041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marL="237960" indent="-237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98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93800" indent="-1587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16000" indent="-160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1634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1634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1634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2200" y="4196880"/>
            <a:ext cx="1533600" cy="3193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1720" y="4196880"/>
            <a:ext cx="2070000" cy="3193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97280" y="4196880"/>
            <a:ext cx="1533600" cy="3193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Autofit/>
          </a:bodyPr>
          <a:lstStyle>
            <a:lvl1pPr indent="0" algn="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fld id="{63317957-8308-489F-A424-8A6EAA47CB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6585120" y="81000"/>
            <a:ext cx="3897000" cy="3338640"/>
            <a:chOff x="6585120" y="81000"/>
            <a:chExt cx="389700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6585120" y="81000"/>
              <a:ext cx="389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B6</a:t>
              </a: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6889680" y="46908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82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28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6826320" y="1401840"/>
              <a:ext cx="3414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6825600" y="2259000"/>
              <a:ext cx="34160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59:55Z</dcterms:modified>
  <cp:revision>16</cp:revision>
  <dc:subject/>
  <dc:title>スライド 1</dc:title>
</cp:coreProperties>
</file>