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151241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365040"/>
            <a:ext cx="12920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1DDA-5D48-4592-9141-ECD351453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9588-862A-4662-8D95-E2A9862F83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5560" y="365040"/>
            <a:ext cx="12920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932-1D85-4358-ABA0-3FB31FDD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963000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1720" y="3531960"/>
            <a:ext cx="96300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720" y="8744040"/>
            <a:ext cx="96300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E8D-5FEB-4525-A34B-B6B377E7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963000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1720" y="3531960"/>
            <a:ext cx="46990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3531960"/>
            <a:ext cx="46990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1720" y="8744040"/>
            <a:ext cx="46990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8744040"/>
            <a:ext cx="46990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094-E4A9-4FF0-8078-D3483C92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963000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1720" y="3531960"/>
            <a:ext cx="31006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920" y="3531960"/>
            <a:ext cx="31006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3760" y="3531960"/>
            <a:ext cx="31006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1720" y="8744040"/>
            <a:ext cx="31006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920" y="8744040"/>
            <a:ext cx="31006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3760" y="8744040"/>
            <a:ext cx="31006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233-DDBF-4469-97E4-12F3B36D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963000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1720" y="3531960"/>
            <a:ext cx="9630000" cy="99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9AC-D92C-43A3-A27C-A3FEAB18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963000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1720" y="3531960"/>
            <a:ext cx="96300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DF3-20BD-4F3D-9DC9-C97FB9C1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963000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1720" y="3531960"/>
            <a:ext cx="469908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3531960"/>
            <a:ext cx="469908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93C-4CC2-4DAA-8296-378DD523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963000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BED-5DE5-4E7D-8ECC-8CC68525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1720" y="607680"/>
            <a:ext cx="963000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309-08A1-4C49-92FB-A30D8A74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963000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1720" y="3531960"/>
            <a:ext cx="46990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3531960"/>
            <a:ext cx="469908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1720" y="8744040"/>
            <a:ext cx="46990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6C6-764D-435C-AAB7-CC7429E4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963000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1720" y="3531960"/>
            <a:ext cx="469908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3531960"/>
            <a:ext cx="46990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8744040"/>
            <a:ext cx="46990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9DE-9E4F-4509-99D8-3C41275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963000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1720" y="3531960"/>
            <a:ext cx="46990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3531960"/>
            <a:ext cx="469908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1720" y="8744040"/>
            <a:ext cx="96300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885-CD07-4A79-AEF0-14D830D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963000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1720" y="3531960"/>
            <a:ext cx="96300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4040" indent="-5540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1201680" indent="-46044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2" marL="1839960" indent="-3668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648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3321000" indent="-3729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5" marL="3321000" indent="-3729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6" marL="3321000" indent="-3729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1720" y="13774320"/>
            <a:ext cx="2495520" cy="1047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13774320"/>
            <a:ext cx="3387600" cy="1047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6200" y="13774320"/>
            <a:ext cx="2495520" cy="1047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  <a:defRPr b="0" lang="en-US" sz="2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fld id="{B8E03F12-00A6-42D6-BA3D-D4F15FB430A6}" type="slidenum">
              <a:rPr b="0" lang="en-US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0693440" y="409680"/>
            <a:ext cx="6761160" cy="4860720"/>
            <a:chOff x="10693440" y="409680"/>
            <a:chExt cx="6761160" cy="48607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0693440" y="409680"/>
              <a:ext cx="676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ゴシック"/>
                </a:rPr>
                <a:t>A3</a:t>
              </a: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1222280" y="1082880"/>
              <a:ext cx="5703480" cy="97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97mm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20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1111760" y="2203560"/>
              <a:ext cx="592416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1110680" y="3690360"/>
              <a:ext cx="5926680" cy="15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50:02Z</dcterms:modified>
  <cp:revision>7</cp:revision>
  <dc:subject/>
  <dc:title>スライド 1</dc:title>
</cp:coreProperties>
</file>