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551613" cy="92519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365040"/>
            <a:ext cx="12956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02E-CAD2-49A2-AB8B-E1C46469A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90DF-CFD1-469D-B45C-F2FA3B4350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3760" y="365040"/>
            <a:ext cx="12956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E10-4D43-41F1-8040-2223666A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2160360"/>
            <a:ext cx="590544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5349600"/>
            <a:ext cx="590544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477-E913-449B-9BEC-6F352D2C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216036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50160" y="216036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534960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50160" y="534960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61B-D7B1-441E-B3A4-C01E86DC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2160360"/>
            <a:ext cx="190116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20560" y="2160360"/>
            <a:ext cx="190116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7120" y="2160360"/>
            <a:ext cx="190116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5349600"/>
            <a:ext cx="190116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20560" y="5349600"/>
            <a:ext cx="190116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17120" y="5349600"/>
            <a:ext cx="190116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A82-EACE-46E6-847E-7D329EFA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2160360"/>
            <a:ext cx="5905440" cy="61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51B-6041-476D-9F53-C7CEB559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2160360"/>
            <a:ext cx="5905440" cy="61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259-2E65-4732-8B53-967BC7C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2160360"/>
            <a:ext cx="2881800" cy="61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50160" y="2160360"/>
            <a:ext cx="2881800" cy="61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BD8-6A63-40D0-80B0-5E36F179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8A2-1F6B-49EE-97E9-F62FC53F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372600"/>
            <a:ext cx="5905440" cy="71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62E-2CA9-4295-8639-AE39882C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216036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50160" y="2160360"/>
            <a:ext cx="2881800" cy="61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534960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D5F-76A4-462D-BD22-E0ED4FA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2160360"/>
            <a:ext cx="2881800" cy="61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50160" y="216036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50160" y="534960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59C-5CEA-4220-B988-F119DE61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216036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50160" y="2160360"/>
            <a:ext cx="288180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5349600"/>
            <a:ext cx="5905440" cy="291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FCC-9CE5-4995-84F3-7CCE013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372600"/>
            <a:ext cx="5905440" cy="15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2160360"/>
            <a:ext cx="5905440" cy="61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80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184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184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184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3640" y="8429760"/>
            <a:ext cx="15318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1720" y="8429760"/>
            <a:ext cx="20700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97280" y="8429760"/>
            <a:ext cx="153216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8AD3BD5-8E27-4D18-86CF-D499E8C2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6904080" y="241200"/>
            <a:ext cx="6759360" cy="4861080"/>
            <a:chOff x="6904080" y="241200"/>
            <a:chExt cx="6759360" cy="48610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6904080" y="241200"/>
              <a:ext cx="675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</a:rPr>
                <a:t>B5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7432560" y="914400"/>
              <a:ext cx="5702040" cy="97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82mm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57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7322400" y="2035080"/>
              <a:ext cx="59223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7320960" y="3522240"/>
              <a:ext cx="592524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56:22Z</dcterms:modified>
  <cp:revision>14</cp:revision>
  <dc:subject/>
  <dc:title>スライド 1</dc:title>
</cp:coreProperties>
</file>