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559675" cy="53276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5760" y="365040"/>
            <a:ext cx="25909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C226-38B9-4A79-865E-78AA50258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D617-4C44-40D3-8AE8-4DEEF120E1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6120" y="365040"/>
            <a:ext cx="25909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49B-757B-4D62-B3E9-758B3454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680868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5840" y="3081600"/>
            <a:ext cx="680868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687-A804-4617-AEF6-12F8A8BD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960" y="124452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5840" y="308160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960" y="308160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6D8-8AA0-4485-8F6A-2D0AD662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21920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040" y="1244520"/>
            <a:ext cx="21920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1244520"/>
            <a:ext cx="21920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5840" y="3081600"/>
            <a:ext cx="21920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040" y="3081600"/>
            <a:ext cx="21920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3081600"/>
            <a:ext cx="21920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4DC-A1E8-4DA1-B3C0-C4F1844B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5840" y="1244520"/>
            <a:ext cx="6808680" cy="35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EE3-3A89-4C0D-8EEE-4520946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6808680" cy="35164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45B-0E9F-43D3-85BC-3757AEA0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3322440" cy="35164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960" y="1244520"/>
            <a:ext cx="3322440" cy="35164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9AB-DF9E-4A74-A8AA-942161DB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321-7D89-4D99-8958-0DC10688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5840" y="214200"/>
            <a:ext cx="680868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C97-9F26-49F4-88E6-9AE3305E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960" y="1244520"/>
            <a:ext cx="3322440" cy="35164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5840" y="308160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07D-26A2-4B74-B287-F531ECE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3322440" cy="35164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960" y="124452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960" y="308160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30C-120B-4AD2-BD73-945E139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5840" y="124452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960" y="1244520"/>
            <a:ext cx="332244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5840" y="3081600"/>
            <a:ext cx="6808680" cy="16772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E7F-898D-44BE-9DA2-F686AF1E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5840" y="214200"/>
            <a:ext cx="6808680" cy="889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5840" y="1244520"/>
            <a:ext cx="6808680" cy="35164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4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9080" indent="-183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1843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85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85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85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5840" y="4854240"/>
            <a:ext cx="1763640" cy="368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4854240"/>
            <a:ext cx="2395440" cy="368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0880" y="4854240"/>
            <a:ext cx="1763640" cy="368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fld id="{335C2A5B-3BF3-4EFE-8B71-580268156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7561440" y="149400"/>
            <a:ext cx="3897000" cy="3338280"/>
            <a:chOff x="7561440" y="149400"/>
            <a:chExt cx="3897000" cy="33382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7561440" y="149400"/>
              <a:ext cx="38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A5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7866000" y="5374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210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48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7802640" y="1470240"/>
              <a:ext cx="3414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7801920" y="2327400"/>
              <a:ext cx="34160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47:57Z</dcterms:modified>
  <cp:revision>11</cp:revision>
  <dc:subject/>
  <dc:title>スライド 1</dc:title>
</cp:coreProperties>
</file>