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03463" cy="32766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800" y="365040"/>
            <a:ext cx="12859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F50-06A1-42B6-A562-57FAA1E9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90DC-59C7-40DF-BB90-0695E9899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8800" y="365040"/>
            <a:ext cx="12859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EC4-AA1A-49CD-9E6B-119C3A03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207468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120" y="1894320"/>
            <a:ext cx="207468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9E9-877E-4962-8C38-9D4AEF1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756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120" y="189432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77560" y="189432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F10-94B8-4E4B-B893-56E87903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15760" y="76464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17400" y="76464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120" y="189432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15760" y="189432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17400" y="1894320"/>
            <a:ext cx="66780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42A-349E-4C71-9A27-BE49F6AB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120" y="764640"/>
            <a:ext cx="207468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BAC-5D88-4D38-B4BD-C83805F4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207468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EA1-AFE3-4385-9D46-58EC60D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101232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77560" y="764640"/>
            <a:ext cx="101232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C65-7E62-4DD7-8033-65F5628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77F-4BAB-4E78-AE12-0810F3C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120" y="131400"/>
            <a:ext cx="207468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DD6-F000-437C-B419-A7324BB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77560" y="764640"/>
            <a:ext cx="101232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120" y="189432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CB8-D21E-4BCD-9070-2E2627A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101232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7756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7560" y="189432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CB9-5C72-4BBC-9842-EC793B3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2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77560" y="764640"/>
            <a:ext cx="101232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120" y="1894320"/>
            <a:ext cx="2074680" cy="10314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9CD-F4E2-4E90-982D-F1A64EA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120" y="131400"/>
            <a:ext cx="2074680" cy="546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120" y="764640"/>
            <a:ext cx="2074680" cy="21625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marL="119160" indent="-1191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-100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79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58720" indent="-810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480" y="2984040"/>
            <a:ext cx="537840" cy="2271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87320" y="2984040"/>
            <a:ext cx="728640" cy="2271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50600" y="2984040"/>
            <a:ext cx="538200" cy="2271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lstStyle>
            <a:lvl1pPr indent="0" algn="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fld id="{7D315147-93D5-4F37-AED5-D57ED7E9B2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637000" y="81000"/>
            <a:ext cx="3897000" cy="3338640"/>
            <a:chOff x="2637000" y="81000"/>
            <a:chExt cx="389700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637000" y="81000"/>
              <a:ext cx="38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8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94156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64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1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9"/>
            <p:cNvSpPr/>
            <p:nvPr/>
          </p:nvSpPr>
          <p:spPr>
            <a:xfrm>
              <a:off x="2878200" y="1401840"/>
              <a:ext cx="3414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877480" y="2259000"/>
              <a:ext cx="34160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00:36Z</dcterms:modified>
  <cp:revision>17</cp:revision>
  <dc:subject/>
  <dc:title>スライド 1</dc:title>
</cp:coreProperties>
</file>