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103225" cy="92519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7920" y="365040"/>
            <a:ext cx="25876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0BA-EE06-4D65-AFC0-3F7F4443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25C2-5DFA-467A-B94D-C30F845573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7920" y="365040"/>
            <a:ext cx="25876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366-138C-4485-B48A-678124D6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1180944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5349600"/>
            <a:ext cx="1180944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302-851C-4468-AAF7-3203D81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98880" y="216036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534960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98880" y="534960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A50-6BB8-414C-B0C7-7B64B714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380232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0400" y="2160360"/>
            <a:ext cx="380232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33160" y="2160360"/>
            <a:ext cx="380232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5349600"/>
            <a:ext cx="380232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40400" y="5349600"/>
            <a:ext cx="380232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33160" y="5349600"/>
            <a:ext cx="380232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4A6-9677-4114-BC64-0F82C126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2160360"/>
            <a:ext cx="11809440" cy="61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98D-D50C-4FCA-8C94-3B0E9BA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11809440" cy="610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2FB-3F05-4B83-8F5C-653F83A4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5762880" cy="610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98880" y="2160360"/>
            <a:ext cx="5762880" cy="610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FC5-09CD-4619-8547-1E33AFE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220-9D8B-4E80-A721-0D2C0A6C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372600"/>
            <a:ext cx="11809440" cy="71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4E6-C320-456D-BD84-F495DDA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98880" y="2160360"/>
            <a:ext cx="5762880" cy="610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534960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064-DA08-4680-8F88-EA09BF39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5762880" cy="610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98880" y="216036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98880" y="534960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D98-24DF-4C29-8A78-BCF78DF8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98880" y="2160360"/>
            <a:ext cx="576288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5349600"/>
            <a:ext cx="11809440" cy="29120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761-6DE0-4195-AAF6-24BEFC9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372600"/>
            <a:ext cx="11809440" cy="15433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160360"/>
            <a:ext cx="11809440" cy="610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97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0840" indent="-317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6680" indent="-3204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4960" indent="-3254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4960" indent="-3254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4960" indent="-3254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8429760"/>
            <a:ext cx="3062520" cy="637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83080" y="8429760"/>
            <a:ext cx="4138560" cy="637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94920" y="8429760"/>
            <a:ext cx="3062160" cy="637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 algn="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fld id="{4AAB5967-1F42-456F-8457-A3B74C85DE6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3134960" y="241200"/>
            <a:ext cx="6761160" cy="4861080"/>
            <a:chOff x="13134960" y="241200"/>
            <a:chExt cx="6761160" cy="48610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3134960" y="241200"/>
              <a:ext cx="676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B4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3663800" y="914400"/>
              <a:ext cx="570348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64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57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3553280" y="2035080"/>
              <a:ext cx="59241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3552200" y="3522240"/>
              <a:ext cx="592668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5:44Z</dcterms:modified>
  <cp:revision>14</cp:revision>
  <dc:subject/>
  <dc:title>スライド 1</dc:title>
</cp:coreProperties>
</file>