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327650" cy="7559675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6640" y="365040"/>
            <a:ext cx="128916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B11F-AFC7-4C49-B537-63FD3B3E5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AA15-9C60-48D4-A85E-6250D897F2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27000" y="365040"/>
            <a:ext cx="128916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19C-1805-4452-88ED-1DE21DF2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600" y="304560"/>
            <a:ext cx="4799160" cy="12603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600" y="1765080"/>
            <a:ext cx="479916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600" y="4371120"/>
            <a:ext cx="479916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129-82C1-48FB-9269-BA1A0815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600" y="304560"/>
            <a:ext cx="4799160" cy="12603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600" y="1765080"/>
            <a:ext cx="234180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3760" y="1765080"/>
            <a:ext cx="234180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600" y="4371120"/>
            <a:ext cx="234180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3760" y="4371120"/>
            <a:ext cx="234180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88CD-D14B-45E1-95B0-B41A6CE1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600" y="304560"/>
            <a:ext cx="4799160" cy="12603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600" y="1765080"/>
            <a:ext cx="154512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87480" y="1765080"/>
            <a:ext cx="154512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10000" y="1765080"/>
            <a:ext cx="154512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600" y="4371120"/>
            <a:ext cx="154512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87480" y="4371120"/>
            <a:ext cx="154512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10000" y="4371120"/>
            <a:ext cx="154512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D06-BE60-4877-8F91-757C7614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600" y="304560"/>
            <a:ext cx="4799160" cy="12603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600" y="1765080"/>
            <a:ext cx="47991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9BC-80FF-4B8C-A0F5-87183FEB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600" y="304560"/>
            <a:ext cx="4799160" cy="12603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600" y="1765080"/>
            <a:ext cx="4799160" cy="4989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F5A0-335A-4DA5-85B4-E8879389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600" y="304560"/>
            <a:ext cx="4799160" cy="12603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600" y="1765080"/>
            <a:ext cx="2341800" cy="4989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3760" y="1765080"/>
            <a:ext cx="2341800" cy="4989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04D-D5DE-4B92-988D-35D44C52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600" y="304560"/>
            <a:ext cx="4799160" cy="12603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889-7CCA-4807-A872-14161EE6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600" y="304560"/>
            <a:ext cx="479916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E49-B7C7-44AE-9FE3-26A3F96A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600" y="304560"/>
            <a:ext cx="4799160" cy="12603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600" y="1765080"/>
            <a:ext cx="234180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760" y="1765080"/>
            <a:ext cx="2341800" cy="4989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600" y="4371120"/>
            <a:ext cx="234180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0B9-EAF7-4055-8A4F-60A1EB4E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600" y="304560"/>
            <a:ext cx="4799160" cy="12603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600" y="1765080"/>
            <a:ext cx="2341800" cy="4989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760" y="1765080"/>
            <a:ext cx="234180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3760" y="4371120"/>
            <a:ext cx="234180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87C-AF22-4FE9-871B-6FD57DA3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600" y="304560"/>
            <a:ext cx="4799160" cy="12603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600" y="1765080"/>
            <a:ext cx="234180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3760" y="1765080"/>
            <a:ext cx="234180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600" y="4371120"/>
            <a:ext cx="4799160" cy="23796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2E8-D05E-4E4A-9606-1CC1619D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600" y="304560"/>
            <a:ext cx="4799160" cy="12603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600" y="1765080"/>
            <a:ext cx="4799160" cy="4989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marL="2761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304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9080" indent="-183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289160" indent="-1843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857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857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857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4600" y="6887880"/>
            <a:ext cx="1243080" cy="5223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0520" y="6887880"/>
            <a:ext cx="1687320" cy="5223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20680" y="6887880"/>
            <a:ext cx="1243080" cy="5223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lstStyle>
            <a:lvl1pPr indent="0" algn="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fld id="{20397837-C104-4C11-9B14-CC9A1451D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5423040" y="244440"/>
            <a:ext cx="3897000" cy="3338640"/>
            <a:chOff x="5423040" y="244440"/>
            <a:chExt cx="3897000" cy="33386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5423040" y="244440"/>
              <a:ext cx="389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A5</a:t>
              </a: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5727600" y="632520"/>
              <a:ext cx="3287520" cy="84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48m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210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5664240" y="1565280"/>
              <a:ext cx="34146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5663520" y="2422440"/>
              <a:ext cx="34160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1:47:23Z</dcterms:modified>
  <cp:revision>9</cp:revision>
  <dc:subject/>
  <dc:title>スライド 1</dc:title>
</cp:coreProperties>
</file>