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124113" cy="106918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1160" y="365040"/>
            <a:ext cx="258120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8BE7-39CF-4B8E-BBA4-FA88E997F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0FD1-D181-45B0-B672-D2E113F6B2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81160" y="365040"/>
            <a:ext cx="258120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896-4AC5-492E-9063-9D9F319C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040" y="430200"/>
            <a:ext cx="13617720" cy="1782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040" y="2496960"/>
            <a:ext cx="1361772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040" y="6183000"/>
            <a:ext cx="1361772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49D-34B7-447A-841A-D80E1249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040" y="430200"/>
            <a:ext cx="13617720" cy="1782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040" y="2496960"/>
            <a:ext cx="664524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6960"/>
            <a:ext cx="664524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040" y="6183000"/>
            <a:ext cx="664524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3000"/>
            <a:ext cx="664524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9DE-6F6A-43BD-B6E9-20755458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040" y="430200"/>
            <a:ext cx="13617720" cy="1782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040" y="2496960"/>
            <a:ext cx="438480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6440" y="2496960"/>
            <a:ext cx="438480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60840" y="2496960"/>
            <a:ext cx="438480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040" y="6183000"/>
            <a:ext cx="438480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6440" y="6183000"/>
            <a:ext cx="438480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60840" y="6183000"/>
            <a:ext cx="438480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D93-E09F-4AD4-B599-712B5077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040" y="430200"/>
            <a:ext cx="13617720" cy="1782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040" y="2496960"/>
            <a:ext cx="13617720" cy="70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628-34E4-456B-963A-F5294A3B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040" y="430200"/>
            <a:ext cx="13617720" cy="1782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040" y="2496960"/>
            <a:ext cx="13617720" cy="7056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FCB-8EFC-47D5-AA79-CFD5749D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040" y="430200"/>
            <a:ext cx="13617720" cy="1782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040" y="2496960"/>
            <a:ext cx="6645240" cy="7056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6960"/>
            <a:ext cx="6645240" cy="7056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79C-507A-4BA9-8315-4CDB8C2E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040" y="430200"/>
            <a:ext cx="13617720" cy="1782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F07-F0FF-424E-A675-79D698BD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040" y="430200"/>
            <a:ext cx="1361772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874-7D81-4E74-916D-5D6BB29D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040" y="430200"/>
            <a:ext cx="13617720" cy="1782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040" y="2496960"/>
            <a:ext cx="664524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6960"/>
            <a:ext cx="6645240" cy="7056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040" y="6183000"/>
            <a:ext cx="664524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CFE-B241-4D87-84AE-3DA6C1FE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040" y="430200"/>
            <a:ext cx="13617720" cy="1782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040" y="2496960"/>
            <a:ext cx="6645240" cy="7056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6960"/>
            <a:ext cx="664524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3000"/>
            <a:ext cx="664524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95E-0279-4C3C-9F77-417692BA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040" y="430200"/>
            <a:ext cx="13617720" cy="1782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040" y="2496960"/>
            <a:ext cx="664524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6960"/>
            <a:ext cx="664524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040" y="6183000"/>
            <a:ext cx="13617720" cy="3366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453-9C67-47CC-9674-279F6699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040" y="430200"/>
            <a:ext cx="13617720" cy="1782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040" y="2496960"/>
            <a:ext cx="13617720" cy="7056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4040" indent="-5540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1201680" indent="-46044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2" marL="1839960" indent="-3668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3" marL="2581200" indent="-36648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3321000" indent="-37296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5" marL="3321000" indent="-37296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6" marL="3321000" indent="-37296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040" y="9740520"/>
            <a:ext cx="3529080" cy="7398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5280" y="9740520"/>
            <a:ext cx="4791240" cy="7398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40680" y="9740520"/>
            <a:ext cx="3529080" cy="7398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  <a:defRPr b="0" lang="en-US" sz="2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fld id="{A03540FA-88CD-4D32-834C-B1087713E40E}" type="slidenum">
              <a:rPr b="0" lang="en-US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5265440" y="123840"/>
            <a:ext cx="6761160" cy="4861080"/>
            <a:chOff x="15265440" y="123840"/>
            <a:chExt cx="6761160" cy="486108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15265440" y="123840"/>
              <a:ext cx="6761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ゴシック"/>
                </a:rPr>
                <a:t>A3</a:t>
              </a: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15794280" y="797040"/>
              <a:ext cx="5703480" cy="97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20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420mm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97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5683760" y="1917720"/>
              <a:ext cx="592416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15682680" y="3404880"/>
              <a:ext cx="5926680" cy="15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1:50:31Z</dcterms:modified>
  <cp:revision>9</cp:revision>
  <dc:subject/>
  <dc:title>スライド 1</dc:title>
</cp:coreProperties>
</file>