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327650" cy="377983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3680" y="365040"/>
            <a:ext cx="25750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A20-3EC8-4268-B083-18196D77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D0C-EB62-46CD-9249-B038C767C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4040" y="365040"/>
            <a:ext cx="25750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97B-AB25-47A5-8CA6-4C523166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48020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160" y="2185200"/>
            <a:ext cx="48020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872-3489-475B-A062-DC07EC1D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412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160" y="218520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4120" y="218520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C36-BC61-489E-A50F-B2A0916E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86760" y="88236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0360" y="88236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160" y="218520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86760" y="218520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0360" y="2185200"/>
            <a:ext cx="15458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546-F5B6-4394-BBEC-D81BFEC7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160" y="882360"/>
            <a:ext cx="4802040" cy="24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F97-972E-4195-A1AB-8122B4D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48020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DE8-EC0B-4D1C-BF66-1124EB1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23432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4120" y="882360"/>
            <a:ext cx="23432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5B4-7A70-44F0-AECA-B11CC74E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1BC-F979-481C-8EFF-A8135CE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3160" y="151920"/>
            <a:ext cx="480204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2AC-D16A-4636-8EA7-A73AA671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4120" y="882360"/>
            <a:ext cx="23432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160" y="218520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532-F740-4CCD-8966-B5B52FD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23432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412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4120" y="218520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358-5BFE-4403-964F-BF0215C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16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4120" y="882360"/>
            <a:ext cx="23432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160" y="2185200"/>
            <a:ext cx="4802040" cy="11894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25C-80BB-4B99-8CF9-A4F366C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160" y="151920"/>
            <a:ext cx="4802040" cy="63036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160" y="882360"/>
            <a:ext cx="4802040" cy="24937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rmAutofit/>
          </a:bodyPr>
          <a:p>
            <a:pPr marL="195120" indent="-1951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1616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49440" indent="-1303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11160" indent="-129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71440" indent="-1317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3160" y="3443040"/>
            <a:ext cx="1244520" cy="260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1960" y="3443040"/>
            <a:ext cx="1684440" cy="260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0680" y="3443040"/>
            <a:ext cx="1244520" cy="2602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5920" bIns="25920" anchor="t">
            <a:noAutofit/>
          </a:bodyPr>
          <a:lstStyle>
            <a:lvl1pPr indent="0" algn="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fld id="{40D2F4E1-422D-4E1D-8532-F5531E3DAA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5329080" y="81000"/>
            <a:ext cx="3897360" cy="3338640"/>
            <a:chOff x="532908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532908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6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563400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5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557028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556956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6:51Z</dcterms:modified>
  <cp:revision>12</cp:revision>
  <dc:subject/>
  <dc:title>スライド 1</dc:title>
</cp:coreProperties>
</file>