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251950" cy="65516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2240" y="365040"/>
            <a:ext cx="25779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1FC5-9D31-4091-87E6-7B40CC17D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B207-698E-489D-8CEB-30FE1BBE7B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82600" y="365040"/>
            <a:ext cx="25779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EEE-84A1-4D3F-947E-7CADFE74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3390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30360"/>
            <a:ext cx="83390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9000"/>
            <a:ext cx="83390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96D-41DD-4B77-9B65-BB3488B3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3390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0360"/>
            <a:ext cx="40694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1530360"/>
            <a:ext cx="40694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9000"/>
            <a:ext cx="40694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3789000"/>
            <a:ext cx="40694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B5C-9FCE-4E08-B0C8-7A8203AC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3390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30360"/>
            <a:ext cx="268488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530360"/>
            <a:ext cx="268488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530360"/>
            <a:ext cx="268488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9000"/>
            <a:ext cx="268488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789000"/>
            <a:ext cx="268488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3789000"/>
            <a:ext cx="268488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C27-199B-4D9A-BB0C-BAB6ADFF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3390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30360"/>
            <a:ext cx="833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5B0-E97D-4352-8EA3-56D4B9E8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3390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30360"/>
            <a:ext cx="833904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68B-8484-4E9D-983C-951443C3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3390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30360"/>
            <a:ext cx="406944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1530360"/>
            <a:ext cx="406944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0D7-A9E8-45F7-8E15-EB70FF76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3390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6AD-0CAA-4E0E-84CA-7C96EEE4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3520"/>
            <a:ext cx="833904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2C3-07E4-475A-B754-A42BC585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3390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0360"/>
            <a:ext cx="40694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1530360"/>
            <a:ext cx="406944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9000"/>
            <a:ext cx="40694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90E-C7B4-4AA9-B6C4-4CB3AD8B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3390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30360"/>
            <a:ext cx="406944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1530360"/>
            <a:ext cx="40694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3789000"/>
            <a:ext cx="40694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E80-D198-4D28-BF1E-5359B5EE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3390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30360"/>
            <a:ext cx="40694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1530360"/>
            <a:ext cx="40694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9000"/>
            <a:ext cx="833904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DF5-3356-4D44-B40F-4132AC8E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3390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30360"/>
            <a:ext cx="833904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80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184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184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184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969160"/>
            <a:ext cx="2163600" cy="45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5480" y="5969160"/>
            <a:ext cx="2922480" cy="45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32640" y="5969160"/>
            <a:ext cx="2163600" cy="45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FEEB5E0-273B-4F76-9399-9F0DF0129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9253440" y="241200"/>
            <a:ext cx="6761160" cy="4861080"/>
            <a:chOff x="9253440" y="241200"/>
            <a:chExt cx="6761160" cy="486108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9253440" y="241200"/>
              <a:ext cx="676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ゴシック"/>
                </a:rPr>
                <a:t>B5</a:t>
              </a: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9782280" y="914400"/>
              <a:ext cx="5703480" cy="97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57mm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82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9671760" y="2035080"/>
              <a:ext cx="592416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9670680" y="3522240"/>
              <a:ext cx="5926680" cy="15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56:52Z</dcterms:modified>
  <cp:revision>15</cp:revision>
  <dc:subject/>
  <dc:title>スライド 1</dc:title>
</cp:coreProperties>
</file>