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251950" cy="1310322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365040"/>
            <a:ext cx="1289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F45D-9D02-4257-9AD5-53C12243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61C7-B436-4A9A-A616-A4AD9071CB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7000" y="365040"/>
            <a:ext cx="1289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FF5-E486-437A-BD7A-5E3F392F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83390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575840"/>
            <a:ext cx="83390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4FF-4D56-4C47-8E87-03F9C21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57584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757584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CE0-8038-4284-A53D-0260CA80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305892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305892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57584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757584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7575840"/>
            <a:ext cx="268488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50F-FB43-4DDA-B054-85C3C297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058920"/>
            <a:ext cx="8339040" cy="86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D7A-DACF-48A6-B45E-FD52061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83390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2C7-CE7E-4719-B1FF-22F292B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40694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3058920"/>
            <a:ext cx="40694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EC2-C556-4223-9B26-E9063A25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2DD-ED01-4802-AA9D-7AAFE84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28480"/>
            <a:ext cx="833904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1F0-F5B6-49FE-B2BF-27F81D0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3058920"/>
            <a:ext cx="40694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57584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5F8-049C-4757-AF81-F064AE4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40694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757584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6B1-BA6A-4914-921E-0E059AA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3058920"/>
            <a:ext cx="40694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575840"/>
            <a:ext cx="8339040" cy="41245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4B4-E864-47FE-A8EA-3CBAB5E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339040" cy="2184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058920"/>
            <a:ext cx="8339040" cy="8646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97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0840" indent="-317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6680" indent="-3204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11937600"/>
            <a:ext cx="2162160" cy="903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480" y="11937600"/>
            <a:ext cx="2922480" cy="903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4080" y="11937600"/>
            <a:ext cx="2162160" cy="903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fld id="{98B5333F-D0E1-4F56-BABC-F9CF2CCCC0B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9755280" y="241200"/>
            <a:ext cx="6759360" cy="4861080"/>
            <a:chOff x="9755280" y="241200"/>
            <a:chExt cx="67593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9755280" y="241200"/>
              <a:ext cx="675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B4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0283760" y="914400"/>
              <a:ext cx="570204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57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64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0173600" y="2035080"/>
              <a:ext cx="59223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0172160" y="3522240"/>
              <a:ext cx="592524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5:14Z</dcterms:modified>
  <cp:revision>13</cp:revision>
  <dc:subject/>
  <dc:title>スライド 1</dc:title>
</cp:coreProperties>
</file>