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663825" cy="377983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6640" y="365040"/>
            <a:ext cx="12891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B346-CD5F-4F84-BBAE-537FCDEEC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0504-2D30-47D0-A427-8C6936A20C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7000" y="365040"/>
            <a:ext cx="12891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1A5-5C48-4215-ACCC-3DF18E81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1760" y="882360"/>
            <a:ext cx="24004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1760" y="2185200"/>
            <a:ext cx="24004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60E-B98F-4F63-BA61-33C32F05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760" y="882360"/>
            <a:ext cx="11710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880" y="882360"/>
            <a:ext cx="11710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1760" y="2185200"/>
            <a:ext cx="11710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880" y="2185200"/>
            <a:ext cx="11710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120-2EE7-408C-BCBC-71513716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1760" y="882360"/>
            <a:ext cx="77256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3200" y="882360"/>
            <a:ext cx="77256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5000" y="882360"/>
            <a:ext cx="77256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1760" y="2185200"/>
            <a:ext cx="77256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43200" y="2185200"/>
            <a:ext cx="77256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55000" y="2185200"/>
            <a:ext cx="77256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E83F-AE0C-4B57-9442-02C1428E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1760" y="882360"/>
            <a:ext cx="2400480" cy="24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C32-1E2F-4F33-A8A2-ACE2062D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1760" y="882360"/>
            <a:ext cx="2400480" cy="249372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348-8695-47C3-979A-16E0BB95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760" y="882360"/>
            <a:ext cx="1171080" cy="249372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880" y="882360"/>
            <a:ext cx="1171080" cy="249372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2B9-EF91-465F-AB0C-8F8FAF02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BE8-8F25-401E-BDC6-91FAA363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1760" y="151920"/>
            <a:ext cx="240048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140-E4B5-4DC6-BECB-73D478AD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1760" y="882360"/>
            <a:ext cx="11710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880" y="882360"/>
            <a:ext cx="1171080" cy="249372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1760" y="2185200"/>
            <a:ext cx="11710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58B-E24E-43AF-B123-9A4A1F0B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1760" y="882360"/>
            <a:ext cx="1171080" cy="249372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880" y="882360"/>
            <a:ext cx="11710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880" y="2185200"/>
            <a:ext cx="11710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EC9-BCD1-4C34-A89C-B2850FB8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1760" y="882360"/>
            <a:ext cx="11710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880" y="882360"/>
            <a:ext cx="11710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1760" y="2185200"/>
            <a:ext cx="2400480" cy="11894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547-D185-4E09-AC3D-7EF38E93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760" y="151920"/>
            <a:ext cx="2400480" cy="6303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1760" y="882360"/>
            <a:ext cx="2400480" cy="249372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marL="138240" indent="-1382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141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-918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644400" indent="-918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828720" indent="-93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828720" indent="-93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828720" indent="-93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1400" y="3443040"/>
            <a:ext cx="622440" cy="2602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0800" y="3443040"/>
            <a:ext cx="841320" cy="2602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09440" y="3443040"/>
            <a:ext cx="622440" cy="2602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fld id="{95D338FF-A02C-41FE-AFA9-E444E14DA00A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641680" y="81000"/>
            <a:ext cx="3897360" cy="3338640"/>
            <a:chOff x="2641680" y="81000"/>
            <a:chExt cx="389736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641680" y="81000"/>
              <a:ext cx="389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A7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946600" y="4690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74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05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882880" y="1401840"/>
              <a:ext cx="3414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882160" y="2259000"/>
              <a:ext cx="34164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28:05Z</dcterms:modified>
  <cp:revision>11</cp:revision>
  <dc:subject/>
  <dc:title>スライド 1</dc:title>
</cp:coreProperties>
</file>