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76600" cy="230346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2520" y="365040"/>
            <a:ext cx="25974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1C61-1358-4626-B75D-C1B7CDA8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221B-FD7F-419C-A995-808E12F4A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2880" y="365040"/>
            <a:ext cx="25974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A4E-6465-418C-8F64-EB89DE85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2952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00" y="1331640"/>
            <a:ext cx="2952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94F-7224-4428-87AA-F97DBD8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508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00" y="133164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5080" y="133164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471-9433-4F7C-B099-D358A603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53820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8560" y="53820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00" y="133164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133164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8560" y="1331640"/>
            <a:ext cx="95040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41A-A40A-4AF6-BD1B-3FA513AA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00" y="538200"/>
            <a:ext cx="2952720" cy="15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93F-9B0A-4E18-80BE-2F4C23AB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2952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97B-C936-476E-9CDE-BA37D69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1440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5080" y="538200"/>
            <a:ext cx="1440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8E4-93FF-4BD5-97B5-5695A00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6D6-9933-4CD1-A110-6C7C8D6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00" y="91800"/>
            <a:ext cx="295272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0CD-8C42-4217-A2E8-EA790ADE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5080" y="538200"/>
            <a:ext cx="1440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00" y="133164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7FA-2741-404D-AAF8-B992866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1440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508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5080" y="133164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147-E508-4534-8518-08C0B6D0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0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5080" y="538200"/>
            <a:ext cx="1440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00" y="1331640"/>
            <a:ext cx="2952720" cy="7243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0AE-74BF-4DE8-885A-F47107D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00" y="91800"/>
            <a:ext cx="2952720" cy="38412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00" y="538200"/>
            <a:ext cx="2952720" cy="151920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rmAutofit/>
          </a:bodyPr>
          <a:p>
            <a:pPr marL="119160" indent="-1191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-100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79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58720" indent="-810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810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00" y="2098440"/>
            <a:ext cx="766800" cy="1587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320" y="2098440"/>
            <a:ext cx="1035000" cy="1587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7920" y="2098440"/>
            <a:ext cx="766800" cy="158760"/>
          </a:xfrm>
          <a:prstGeom prst="rect">
            <a:avLst/>
          </a:prstGeom>
          <a:noFill/>
          <a:ln w="0">
            <a:noFill/>
          </a:ln>
        </p:spPr>
        <p:txBody>
          <a:bodyPr lIns="31680" rIns="31680" tIns="15840" bIns="15840" anchor="t">
            <a:noAutofit/>
          </a:bodyPr>
          <a:lstStyle>
            <a:lvl1pPr indent="0" algn="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fld id="{48CD010D-FCF3-4D7E-AB6D-0BDD739A33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533760" y="81000"/>
            <a:ext cx="3897360" cy="3338640"/>
            <a:chOff x="353376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53376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8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83868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4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64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77496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77424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05:00Z</dcterms:modified>
  <cp:revision>18</cp:revision>
  <dc:subject/>
  <dc:title>スライド 1</dc:title>
</cp:coreProperties>
</file>