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608513" cy="327660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6920" y="365040"/>
            <a:ext cx="25686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813E-DBD7-450E-9D6C-D0FBAEDCB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456D-9204-4236-A021-73B89CB49C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87280" y="365040"/>
            <a:ext cx="25686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18A-F6A2-43F3-A3CA-FC1E2B62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7160" y="131400"/>
            <a:ext cx="4154400" cy="5461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7160" y="764640"/>
            <a:ext cx="415440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7160" y="1894320"/>
            <a:ext cx="415440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2EC-117D-4D4E-80CD-89D6987D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7160" y="131400"/>
            <a:ext cx="4154400" cy="5461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7160" y="764640"/>
            <a:ext cx="202716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56200" y="764640"/>
            <a:ext cx="202716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7160" y="1894320"/>
            <a:ext cx="202716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56200" y="1894320"/>
            <a:ext cx="202716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C6F-1E7A-4E01-9191-D76F66D8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160" y="131400"/>
            <a:ext cx="4154400" cy="5461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160" y="764640"/>
            <a:ext cx="133740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31880" y="764640"/>
            <a:ext cx="133740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36600" y="764640"/>
            <a:ext cx="133740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7160" y="1894320"/>
            <a:ext cx="133740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31880" y="1894320"/>
            <a:ext cx="133740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036600" y="1894320"/>
            <a:ext cx="133740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AA5-4133-4889-9353-BE3340F5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7160" y="131400"/>
            <a:ext cx="4154400" cy="5461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7160" y="764640"/>
            <a:ext cx="4154400" cy="21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FED-19C4-47A9-A784-42049500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7160" y="131400"/>
            <a:ext cx="4154400" cy="5461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7160" y="764640"/>
            <a:ext cx="4154400" cy="21625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274-8B3C-4DD7-BD88-FF866294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7160" y="131400"/>
            <a:ext cx="4154400" cy="5461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7160" y="764640"/>
            <a:ext cx="2027160" cy="21625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56200" y="764640"/>
            <a:ext cx="2027160" cy="21625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974-ED1A-4B73-AB2D-237CB17E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160" y="131400"/>
            <a:ext cx="4154400" cy="5461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BAE-6934-4236-BC5A-5F5A38F7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7160" y="131400"/>
            <a:ext cx="4154400" cy="25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014-CE10-413C-AEE7-768364E6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160" y="131400"/>
            <a:ext cx="4154400" cy="5461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160" y="764640"/>
            <a:ext cx="202716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56200" y="764640"/>
            <a:ext cx="2027160" cy="21625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7160" y="1894320"/>
            <a:ext cx="202716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E17-71D8-44B1-85DB-BB3F9A10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7160" y="131400"/>
            <a:ext cx="4154400" cy="5461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7160" y="764640"/>
            <a:ext cx="2027160" cy="21625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56200" y="764640"/>
            <a:ext cx="202716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56200" y="1894320"/>
            <a:ext cx="202716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045-AF89-4C0B-AE18-91D7B317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7160" y="131400"/>
            <a:ext cx="4154400" cy="5461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7160" y="764640"/>
            <a:ext cx="202716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56200" y="764640"/>
            <a:ext cx="202716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7160" y="1894320"/>
            <a:ext cx="4154400" cy="10314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A87-35F4-4F4A-8635-F8EEE5C1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160" y="131400"/>
            <a:ext cx="4154400" cy="5461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160" y="764640"/>
            <a:ext cx="4154400" cy="21625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marL="16812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8280" indent="-141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-111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89120" indent="-114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14480" indent="-115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014480" indent="-115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014480" indent="-115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6800" y="2984040"/>
            <a:ext cx="1076040" cy="22716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76440" y="2984040"/>
            <a:ext cx="1455840" cy="22716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305160" y="2984040"/>
            <a:ext cx="1076400" cy="22716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5168D4-20C4-41A6-A8CD-05E255F46DCB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4743360" y="81000"/>
            <a:ext cx="3897360" cy="3338640"/>
            <a:chOff x="4743360" y="81000"/>
            <a:chExt cx="3897360" cy="3338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4743360" y="81000"/>
              <a:ext cx="389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B7</a:t>
              </a: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5048280" y="46908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28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91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4984560" y="1401840"/>
              <a:ext cx="3414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4983840" y="2259000"/>
              <a:ext cx="34164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2:06:34Z</dcterms:modified>
  <cp:revision>17</cp:revision>
  <dc:subject/>
  <dc:title>スライド 1</dc:title>
</cp:coreProperties>
</file>