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44688" cy="306070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365040"/>
            <a:ext cx="11588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388C-8794-40E2-AAC7-4F5F581F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C6C-A45C-4A08-B614-D3BC7AC53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92160" y="365040"/>
            <a:ext cx="11588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C73-8FE0-4087-B12E-16D3F41B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175104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6840" y="1769040"/>
            <a:ext cx="175104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414-CCB6-4A6A-A25C-CBF58FE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4320" y="7142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840" y="17690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94320" y="17690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0CF-AE9B-4553-92AC-E88EC156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56376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9040" y="714240"/>
            <a:ext cx="56376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81600" y="714240"/>
            <a:ext cx="56376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6840" y="1769040"/>
            <a:ext cx="56376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89040" y="1769040"/>
            <a:ext cx="56376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81600" y="1769040"/>
            <a:ext cx="56376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3AD-871D-431B-9006-F870C8DC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6840" y="714240"/>
            <a:ext cx="1751040" cy="20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729-CD48-4721-8EB1-5BD32F3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1751040" cy="20196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BE0-537C-4381-92A5-F1E90E42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854280" cy="20196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94320" y="714240"/>
            <a:ext cx="854280" cy="20196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635-5D97-4218-B172-83C71925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88C-BB69-4A25-A14B-B05A86FF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840" y="123480"/>
            <a:ext cx="17510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B94-5CCA-4E5F-826D-B4FD0D26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94320" y="714240"/>
            <a:ext cx="854280" cy="20196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6840" y="17690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1C0-7F5E-4119-9C1A-9B667E5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854280" cy="20196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94320" y="7142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4320" y="17690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55B-4F1E-4DC2-951F-45F50F1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6840" y="7142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94320" y="714240"/>
            <a:ext cx="85428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6840" y="1769040"/>
            <a:ext cx="1751040" cy="96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699-B792-47E3-85AC-96504A3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840" y="123480"/>
            <a:ext cx="1751040" cy="5094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840" y="714240"/>
            <a:ext cx="1751040" cy="20196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/>
          </a:bodyPr>
          <a:p>
            <a:pPr marL="106200" indent="-1062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889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69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500040" indent="-69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642960" indent="-7128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642960" indent="-7128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642960" indent="-7128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480" y="2787120"/>
            <a:ext cx="453960" cy="2127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3480" y="2787120"/>
            <a:ext cx="617760" cy="2127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93560" y="2787120"/>
            <a:ext cx="453960" cy="2127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lstStyle>
            <a:lvl1pPr indent="0" algn="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fld id="{4A5F1953-4CFF-4B3A-A792-A657F357BF7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125800" y="88920"/>
            <a:ext cx="3828960" cy="3117960"/>
            <a:chOff x="2125800" y="88920"/>
            <a:chExt cx="3828960" cy="31179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125800" y="88920"/>
              <a:ext cx="382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000000"/>
                  </a:solidFill>
                  <a:latin typeface="ＭＳ Ｐゴシック"/>
                </a:rPr>
                <a:t>テンプレート：カード（縦向き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425320" y="451440"/>
              <a:ext cx="3229920" cy="816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5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5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500" spc="-1" strike="noStrike">
                  <a:solidFill>
                    <a:srgbClr val="000000"/>
                  </a:solidFill>
                  <a:latin typeface="ＭＳ Ｐゴシック"/>
                </a:rPr>
                <a:t>54mm</a:t>
              </a:r>
              <a:r>
                <a:rPr b="0" lang="ja-JP" sz="15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5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5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500" spc="-1" strike="noStrike">
                  <a:solidFill>
                    <a:srgbClr val="000000"/>
                  </a:solidFill>
                  <a:latin typeface="ＭＳ Ｐゴシック"/>
                </a:rPr>
                <a:t>85m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361960" y="1323000"/>
              <a:ext cx="335664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1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361960" y="2122920"/>
              <a:ext cx="335664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1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05T03:14:02Z</dcterms:modified>
  <cp:revision>6</cp:revision>
  <dc:subject/>
  <dc:title>スライド 1</dc:title>
</cp:coreProperties>
</file>