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79613" cy="32766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8800" y="365040"/>
            <a:ext cx="11048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677E-5C69-4A94-9B8F-8B599E12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4F6-07BE-4842-A66F-6B0548848A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19160" y="365040"/>
            <a:ext cx="11048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14D-1208-4DD6-80D4-9432DE63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920" y="189432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061-721C-41B5-B983-89FA1A4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1196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531-40BC-4B64-8ECC-F9BA190B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0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03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00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03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134-8B81-4E41-A4A0-DCF98E93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90B-114C-43C7-B457-A99D90BF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EE7-6B66-48A6-8975-D35A1991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441-6747-41B6-AE33-149AFE9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25A-7846-458E-A3D7-208DD7C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920" y="131400"/>
            <a:ext cx="178308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9F0-CE9B-4C62-A41D-6C965F62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F71-D28A-488E-BC59-E056785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96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BAD-1FC9-45AE-ACCC-0053025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C87-FE05-407F-9060-218D264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 fontScale="96000"/>
          </a:bodyPr>
          <a:p>
            <a:pPr marL="108000" indent="-1080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4360" indent="-896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59640" indent="-716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04360" indent="-716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8280" y="2984040"/>
            <a:ext cx="46224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6080" y="2984040"/>
            <a:ext cx="62676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19120" y="2984040"/>
            <a:ext cx="46224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fld id="{20251227-E1AF-4D4C-9A0E-FA0A5FB35A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163600" y="95400"/>
            <a:ext cx="3897360" cy="3336840"/>
            <a:chOff x="2163600" y="95400"/>
            <a:chExt cx="3897360" cy="33368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163600" y="954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名刺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468520" y="48312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55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1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404080" y="1415880"/>
              <a:ext cx="34164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404080" y="2272320"/>
              <a:ext cx="3416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0:50:13Z</dcterms:modified>
  <cp:revision>5</cp:revision>
  <dc:subject/>
  <dc:title>スライド 1</dc:title>
</cp:coreProperties>
</file>