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76600" cy="19796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0480" y="365040"/>
            <a:ext cx="302256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8C39-50DB-4584-B103-8EB89B491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6FDB-0114-4771-B094-64187E99E3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60480" y="365040"/>
            <a:ext cx="302256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913-2D8E-4601-AB97-73DCBDB4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29494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3080" y="1144440"/>
            <a:ext cx="29494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3C1F-3BED-417E-AC7B-83763522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472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3080" y="114444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74720" y="114444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EA9-59E6-4FAC-BDE9-0E22B5BF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0280" y="46152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57480" y="46152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3080" y="114444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0280" y="114444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57480" y="114444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774-58AA-4E90-8D83-8A02F148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3080" y="461520"/>
            <a:ext cx="294948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1FC-FF92-455D-B989-851DE6C8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29494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BCD-6504-4D22-A084-DEE21DCC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14392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74720" y="461520"/>
            <a:ext cx="14392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32D-7DC1-40DF-ADCE-2AABC3C7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C00-D893-4FA9-AEE4-49C8B8AB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3080" y="79200"/>
            <a:ext cx="29494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E79-B51D-4E8E-B09C-10576122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74720" y="461520"/>
            <a:ext cx="14392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3080" y="114444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0AD-59CF-411A-A19E-5FC9AC87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14392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7472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4720" y="114444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7CE-A483-4943-B3E4-6E79DFB9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7472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3080" y="1144440"/>
            <a:ext cx="29494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1A44-9FF1-451A-88F4-2DB03320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3080" y="461520"/>
            <a:ext cx="29494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 fontScale="92000"/>
          </a:bodyPr>
          <a:p>
            <a:pPr marL="103320" indent="-10332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4640" indent="-8604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4520" indent="-6876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483480" indent="-6876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622080" indent="-702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622080" indent="-702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622080" indent="-702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3080" y="1803240"/>
            <a:ext cx="763560" cy="1368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19240" y="1803240"/>
            <a:ext cx="1038240" cy="1368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49000" y="1803240"/>
            <a:ext cx="763560" cy="1368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fld id="{EB03D49F-0B91-48B6-BAC5-CEB452434F1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3468600" y="0"/>
            <a:ext cx="3897360" cy="3338640"/>
            <a:chOff x="3468600" y="0"/>
            <a:chExt cx="3897360" cy="33386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3468600" y="0"/>
              <a:ext cx="389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テンプレート：名刺（横向き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3773520" y="388080"/>
              <a:ext cx="3287520" cy="84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91m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55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3709080" y="1321200"/>
              <a:ext cx="341640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3709080" y="2178000"/>
              <a:ext cx="34164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0:50:53Z</dcterms:modified>
  <cp:revision>6</cp:revision>
  <dc:subject/>
  <dc:title>スライド 1</dc:title>
</cp:coreProperties>
</file>